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0FF2A-5782-4180-9B9F-425D71DAD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3CC7A-0B23-490F-8E58-6E21E9215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1FAAF-4790-4DC4-B287-3BB0C6FEC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E6819-A7F6-49F5-BFE9-A16AA14E2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A4154-34E9-4DA9-B837-D3EEC86F1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B9CB3-40D0-46BF-BAB6-41EAB5ABD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D7294-399F-4C0B-915E-012DB1869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3403D-8C14-4B43-B5C5-08EA48CE6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45025-FBF8-4BB7-83D6-14626440F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66349-BE0A-418B-B786-858504C57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6AA35-356A-4B2A-A57E-EFEA284B3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06DEA-A0CC-454B-8A3B-EBFA77BA3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4B4A8-D2D0-4CD8-87F0-C8D900C46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EE6AC-35DD-4451-B025-FCD64CD68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F7F94-C6D6-418A-AA72-1BEF14F4A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7871A-6732-4E7B-B748-3A0FBCA3B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0A012-18E8-4071-908B-38144E640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B4018-99B8-42A2-8892-64DBDA74D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4013B-E826-4F27-BB4C-9A762F920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5132B-03D9-4995-8EE4-222E1E73C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97E90-1C47-4FAB-B9B9-21CDC0E61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305E3-5343-444E-9D5A-D10F3A055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0AB00-3593-497C-B9A3-55AD0DFDE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8A027-5EC6-4A49-BE03-E5232C5F3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EFA9D-5252-456D-A8FD-4D72B72004B4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E57A6-06DD-4FB1-82AB-DD230B03661E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685800" y="304560"/>
            <a:ext cx="6858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Opener: Solve the equation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.) 12 + x = 36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.)11n = 121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3.) h – 21 = 37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"/>
          <p:cNvSpPr/>
          <p:nvPr/>
        </p:nvSpPr>
        <p:spPr>
          <a:xfrm>
            <a:off x="2500200" y="1411200"/>
            <a:ext cx="571680" cy="169920"/>
          </a:xfrm>
          <a:custGeom>
            <a:avLst/>
            <a:gdLst/>
            <a:ahLst/>
            <a:rect l="l" t="t" r="r" b="b"/>
            <a:pathLst>
              <a:path w="1589" h="472">
                <a:moveTo>
                  <a:pt x="6945" y="4018"/>
                </a:moveTo>
                <a:cubicBezTo>
                  <a:pt x="7066" y="4018"/>
                  <a:pt x="7177" y="4014"/>
                  <a:pt x="7293" y="4043"/>
                </a:cubicBezTo>
              </a:path>
              <a:path w="1589" h="472">
                <a:moveTo>
                  <a:pt x="7863" y="3994"/>
                </a:moveTo>
                <a:cubicBezTo>
                  <a:pt x="7802" y="4072"/>
                  <a:pt x="7842" y="4199"/>
                  <a:pt x="7863" y="4291"/>
                </a:cubicBezTo>
                <a:cubicBezTo>
                  <a:pt x="7882" y="4349"/>
                  <a:pt x="7891" y="4355"/>
                  <a:pt x="7888" y="4390"/>
                </a:cubicBezTo>
              </a:path>
              <a:path w="1589" h="472">
                <a:moveTo>
                  <a:pt x="8012" y="3969"/>
                </a:moveTo>
                <a:cubicBezTo>
                  <a:pt x="8165" y="3930"/>
                  <a:pt x="8229" y="3902"/>
                  <a:pt x="8359" y="3994"/>
                </a:cubicBezTo>
                <a:cubicBezTo>
                  <a:pt x="8336" y="4146"/>
                  <a:pt x="8262" y="4242"/>
                  <a:pt x="8136" y="4341"/>
                </a:cubicBezTo>
                <a:cubicBezTo>
                  <a:pt x="8119" y="4349"/>
                  <a:pt x="8103" y="4358"/>
                  <a:pt x="8086" y="4366"/>
                </a:cubicBezTo>
                <a:cubicBezTo>
                  <a:pt x="8206" y="4366"/>
                  <a:pt x="8316" y="4350"/>
                  <a:pt x="8434" y="4341"/>
                </a:cubicBezTo>
                <a:cubicBezTo>
                  <a:pt x="8495" y="4341"/>
                  <a:pt x="8511" y="4332"/>
                  <a:pt x="8533" y="436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776680" y="1758960"/>
            <a:ext cx="134640" cy="187200"/>
          </a:xfrm>
          <a:custGeom>
            <a:avLst/>
            <a:gdLst/>
            <a:ahLst/>
            <a:rect l="l" t="t" r="r" b="b"/>
            <a:pathLst>
              <a:path w="373" h="521">
                <a:moveTo>
                  <a:pt x="7938" y="4887"/>
                </a:moveTo>
                <a:cubicBezTo>
                  <a:pt x="8057" y="4917"/>
                  <a:pt x="8089" y="5011"/>
                  <a:pt x="8037" y="5135"/>
                </a:cubicBezTo>
                <a:cubicBezTo>
                  <a:pt x="7976" y="5281"/>
                  <a:pt x="7857" y="5400"/>
                  <a:pt x="7714" y="5383"/>
                </a:cubicBezTo>
                <a:cubicBezTo>
                  <a:pt x="7735" y="5290"/>
                  <a:pt x="7818" y="5183"/>
                  <a:pt x="7938" y="5209"/>
                </a:cubicBezTo>
                <a:cubicBezTo>
                  <a:pt x="8012" y="5225"/>
                  <a:pt x="8073" y="5292"/>
                  <a:pt x="8086" y="535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724040" y="4911840"/>
            <a:ext cx="1724040" cy="642960"/>
          </a:xfrm>
          <a:custGeom>
            <a:avLst/>
            <a:gdLst/>
            <a:ahLst/>
            <a:rect l="l" t="t" r="r" b="b"/>
            <a:pathLst>
              <a:path w="4789" h="1787">
                <a:moveTo>
                  <a:pt x="6970" y="14461"/>
                </a:moveTo>
                <a:cubicBezTo>
                  <a:pt x="7057" y="14461"/>
                  <a:pt x="7161" y="14454"/>
                  <a:pt x="7243" y="14436"/>
                </a:cubicBezTo>
                <a:cubicBezTo>
                  <a:pt x="7287" y="14415"/>
                  <a:pt x="7298" y="14402"/>
                  <a:pt x="7317" y="14436"/>
                </a:cubicBezTo>
              </a:path>
              <a:path w="4789" h="1787">
                <a:moveTo>
                  <a:pt x="7069" y="14660"/>
                </a:moveTo>
                <a:cubicBezTo>
                  <a:pt x="7177" y="14635"/>
                  <a:pt x="7284" y="14611"/>
                  <a:pt x="7392" y="14585"/>
                </a:cubicBezTo>
              </a:path>
              <a:path w="4789" h="1787">
                <a:moveTo>
                  <a:pt x="8285" y="14064"/>
                </a:moveTo>
                <a:cubicBezTo>
                  <a:pt x="8190" y="14102"/>
                  <a:pt x="8114" y="14114"/>
                  <a:pt x="8012" y="14114"/>
                </a:cubicBezTo>
                <a:cubicBezTo>
                  <a:pt x="7957" y="14114"/>
                  <a:pt x="7947" y="14280"/>
                  <a:pt x="7938" y="14312"/>
                </a:cubicBezTo>
                <a:cubicBezTo>
                  <a:pt x="7921" y="14374"/>
                  <a:pt x="7913" y="14400"/>
                  <a:pt x="7913" y="14461"/>
                </a:cubicBezTo>
                <a:cubicBezTo>
                  <a:pt x="8023" y="14461"/>
                  <a:pt x="8127" y="14409"/>
                  <a:pt x="8235" y="14412"/>
                </a:cubicBezTo>
                <a:cubicBezTo>
                  <a:pt x="8359" y="14415"/>
                  <a:pt x="8461" y="14582"/>
                  <a:pt x="8359" y="14684"/>
                </a:cubicBezTo>
                <a:cubicBezTo>
                  <a:pt x="8295" y="14748"/>
                  <a:pt x="8014" y="14858"/>
                  <a:pt x="7938" y="14759"/>
                </a:cubicBezTo>
                <a:cubicBezTo>
                  <a:pt x="7938" y="14734"/>
                  <a:pt x="7938" y="14709"/>
                  <a:pt x="7938" y="14684"/>
                </a:cubicBezTo>
              </a:path>
              <a:path w="4789" h="1787">
                <a:moveTo>
                  <a:pt x="8979" y="14064"/>
                </a:moveTo>
                <a:cubicBezTo>
                  <a:pt x="8903" y="14115"/>
                  <a:pt x="8756" y="14176"/>
                  <a:pt x="8756" y="14288"/>
                </a:cubicBezTo>
                <a:cubicBezTo>
                  <a:pt x="8756" y="14402"/>
                  <a:pt x="8929" y="14471"/>
                  <a:pt x="8979" y="14560"/>
                </a:cubicBezTo>
                <a:cubicBezTo>
                  <a:pt x="9049" y="14685"/>
                  <a:pt x="8949" y="14700"/>
                  <a:pt x="8855" y="14709"/>
                </a:cubicBezTo>
                <a:cubicBezTo>
                  <a:pt x="8843" y="14499"/>
                  <a:pt x="8954" y="14407"/>
                  <a:pt x="9029" y="14213"/>
                </a:cubicBezTo>
                <a:cubicBezTo>
                  <a:pt x="9029" y="14163"/>
                  <a:pt x="9029" y="14146"/>
                  <a:pt x="8979" y="14163"/>
                </a:cubicBezTo>
              </a:path>
              <a:path w="4789" h="1787">
                <a:moveTo>
                  <a:pt x="5432" y="14089"/>
                </a:moveTo>
                <a:cubicBezTo>
                  <a:pt x="5487" y="14294"/>
                  <a:pt x="5541" y="14494"/>
                  <a:pt x="5556" y="14709"/>
                </a:cubicBezTo>
                <a:cubicBezTo>
                  <a:pt x="5563" y="14815"/>
                  <a:pt x="5556" y="14926"/>
                  <a:pt x="5556" y="15032"/>
                </a:cubicBezTo>
                <a:cubicBezTo>
                  <a:pt x="5556" y="14860"/>
                  <a:pt x="5605" y="14754"/>
                  <a:pt x="5705" y="14610"/>
                </a:cubicBezTo>
                <a:cubicBezTo>
                  <a:pt x="5810" y="14459"/>
                  <a:pt x="5939" y="14364"/>
                  <a:pt x="6077" y="14536"/>
                </a:cubicBezTo>
                <a:cubicBezTo>
                  <a:pt x="6181" y="14666"/>
                  <a:pt x="6146" y="14795"/>
                  <a:pt x="6201" y="14932"/>
                </a:cubicBezTo>
                <a:cubicBezTo>
                  <a:pt x="6226" y="14957"/>
                  <a:pt x="6234" y="14965"/>
                  <a:pt x="6201" y="14982"/>
                </a:cubicBezTo>
              </a:path>
              <a:path w="4789" h="1787">
                <a:moveTo>
                  <a:pt x="6152" y="13667"/>
                </a:moveTo>
                <a:cubicBezTo>
                  <a:pt x="6123" y="13584"/>
                  <a:pt x="6086" y="13742"/>
                  <a:pt x="6077" y="13767"/>
                </a:cubicBezTo>
                <a:cubicBezTo>
                  <a:pt x="6058" y="13823"/>
                  <a:pt x="6046" y="13961"/>
                  <a:pt x="6127" y="13990"/>
                </a:cubicBezTo>
                <a:cubicBezTo>
                  <a:pt x="6211" y="14020"/>
                  <a:pt x="6262" y="13946"/>
                  <a:pt x="6300" y="13891"/>
                </a:cubicBezTo>
                <a:cubicBezTo>
                  <a:pt x="6334" y="13842"/>
                  <a:pt x="6384" y="13747"/>
                  <a:pt x="6325" y="13692"/>
                </a:cubicBezTo>
                <a:cubicBezTo>
                  <a:pt x="6275" y="13646"/>
                  <a:pt x="6189" y="13667"/>
                  <a:pt x="6127" y="13667"/>
                </a:cubicBezTo>
              </a:path>
              <a:path w="4789" h="1787">
                <a:moveTo>
                  <a:pt x="5085" y="13915"/>
                </a:moveTo>
                <a:cubicBezTo>
                  <a:pt x="5085" y="14240"/>
                  <a:pt x="5092" y="14560"/>
                  <a:pt x="5085" y="14883"/>
                </a:cubicBezTo>
                <a:cubicBezTo>
                  <a:pt x="5081" y="15067"/>
                  <a:pt x="5069" y="15246"/>
                  <a:pt x="5060" y="15429"/>
                </a:cubicBezTo>
                <a:cubicBezTo>
                  <a:pt x="5138" y="15413"/>
                  <a:pt x="5229" y="15385"/>
                  <a:pt x="5308" y="15379"/>
                </a:cubicBezTo>
                <a:cubicBezTo>
                  <a:pt x="5693" y="15350"/>
                  <a:pt x="6088" y="15340"/>
                  <a:pt x="6474" y="15354"/>
                </a:cubicBezTo>
                <a:cubicBezTo>
                  <a:pt x="7016" y="15373"/>
                  <a:pt x="7544" y="15412"/>
                  <a:pt x="8086" y="15404"/>
                </a:cubicBezTo>
                <a:cubicBezTo>
                  <a:pt x="8411" y="15399"/>
                  <a:pt x="8689" y="15349"/>
                  <a:pt x="9004" y="15304"/>
                </a:cubicBezTo>
                <a:cubicBezTo>
                  <a:pt x="9079" y="15293"/>
                  <a:pt x="9113" y="15295"/>
                  <a:pt x="9178" y="15280"/>
                </a:cubicBezTo>
                <a:cubicBezTo>
                  <a:pt x="9231" y="15268"/>
                  <a:pt x="9223" y="15287"/>
                  <a:pt x="9252" y="15255"/>
                </a:cubicBezTo>
                <a:cubicBezTo>
                  <a:pt x="9332" y="15166"/>
                  <a:pt x="9330" y="15003"/>
                  <a:pt x="9351" y="14883"/>
                </a:cubicBezTo>
                <a:cubicBezTo>
                  <a:pt x="9389" y="14661"/>
                  <a:pt x="9462" y="14454"/>
                  <a:pt x="9525" y="14238"/>
                </a:cubicBezTo>
                <a:cubicBezTo>
                  <a:pt x="9553" y="14142"/>
                  <a:pt x="9558" y="14140"/>
                  <a:pt x="9575" y="14089"/>
                </a:cubicBezTo>
                <a:cubicBezTo>
                  <a:pt x="9501" y="14073"/>
                  <a:pt x="9428" y="14058"/>
                  <a:pt x="9351" y="14039"/>
                </a:cubicBezTo>
                <a:cubicBezTo>
                  <a:pt x="9170" y="13994"/>
                  <a:pt x="8988" y="13967"/>
                  <a:pt x="8806" y="13940"/>
                </a:cubicBezTo>
                <a:cubicBezTo>
                  <a:pt x="8650" y="13917"/>
                  <a:pt x="8519" y="13891"/>
                  <a:pt x="8359" y="13891"/>
                </a:cubicBezTo>
                <a:cubicBezTo>
                  <a:pt x="8239" y="13891"/>
                  <a:pt x="8107" y="13901"/>
                  <a:pt x="7987" y="13915"/>
                </a:cubicBezTo>
                <a:cubicBezTo>
                  <a:pt x="7915" y="13924"/>
                  <a:pt x="7843" y="13938"/>
                  <a:pt x="7764" y="13940"/>
                </a:cubicBezTo>
                <a:cubicBezTo>
                  <a:pt x="7627" y="13943"/>
                  <a:pt x="7498" y="13947"/>
                  <a:pt x="7367" y="13940"/>
                </a:cubicBezTo>
                <a:cubicBezTo>
                  <a:pt x="7222" y="13932"/>
                  <a:pt x="7084" y="13948"/>
                  <a:pt x="6945" y="13940"/>
                </a:cubicBezTo>
                <a:cubicBezTo>
                  <a:pt x="6756" y="13929"/>
                  <a:pt x="6561" y="13900"/>
                  <a:pt x="6375" y="13866"/>
                </a:cubicBezTo>
                <a:cubicBezTo>
                  <a:pt x="6240" y="13841"/>
                  <a:pt x="6113" y="13815"/>
                  <a:pt x="5978" y="13791"/>
                </a:cubicBezTo>
                <a:cubicBezTo>
                  <a:pt x="5877" y="13773"/>
                  <a:pt x="5783" y="13750"/>
                  <a:pt x="5680" y="13742"/>
                </a:cubicBezTo>
                <a:cubicBezTo>
                  <a:pt x="5582" y="13735"/>
                  <a:pt x="5479" y="13713"/>
                  <a:pt x="5383" y="13717"/>
                </a:cubicBezTo>
                <a:cubicBezTo>
                  <a:pt x="5272" y="13722"/>
                  <a:pt x="5167" y="13765"/>
                  <a:pt x="5060" y="13791"/>
                </a:cubicBezTo>
                <a:cubicBezTo>
                  <a:pt x="4992" y="13807"/>
                  <a:pt x="4936" y="13820"/>
                  <a:pt x="4862" y="13841"/>
                </a:cubicBezTo>
                <a:cubicBezTo>
                  <a:pt x="4817" y="13841"/>
                  <a:pt x="4804" y="13838"/>
                  <a:pt x="4787" y="1386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035080" y="3500280"/>
            <a:ext cx="127080" cy="27000"/>
          </a:xfrm>
          <a:custGeom>
            <a:avLst/>
            <a:gdLst/>
            <a:ahLst/>
            <a:rect l="l" t="t" r="r" b="b"/>
            <a:pathLst>
              <a:path w="349" h="76">
                <a:moveTo>
                  <a:pt x="5655" y="9798"/>
                </a:moveTo>
                <a:cubicBezTo>
                  <a:pt x="5771" y="9765"/>
                  <a:pt x="5884" y="9744"/>
                  <a:pt x="6003" y="9723"/>
                </a:cubicBezTo>
              </a:path>
              <a:path w="349" h="76">
                <a:moveTo>
                  <a:pt x="6003" y="9723"/>
                </a:moveTo>
                <a:lnTo>
                  <a:pt x="6003" y="9723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197000" y="1625760"/>
            <a:ext cx="2035080" cy="2089080"/>
          </a:xfrm>
          <a:custGeom>
            <a:avLst/>
            <a:gdLst/>
            <a:ahLst/>
            <a:rect l="l" t="t" r="r" b="b"/>
            <a:pathLst>
              <a:path w="5656" h="5806">
                <a:moveTo>
                  <a:pt x="8657" y="4837"/>
                </a:moveTo>
                <a:cubicBezTo>
                  <a:pt x="8616" y="5018"/>
                  <a:pt x="8597" y="5199"/>
                  <a:pt x="8582" y="5383"/>
                </a:cubicBezTo>
                <a:cubicBezTo>
                  <a:pt x="8582" y="5441"/>
                  <a:pt x="8582" y="5449"/>
                  <a:pt x="8582" y="5482"/>
                </a:cubicBezTo>
              </a:path>
              <a:path w="5656" h="5806">
                <a:moveTo>
                  <a:pt x="3324" y="8111"/>
                </a:moveTo>
                <a:cubicBezTo>
                  <a:pt x="3402" y="8111"/>
                  <a:pt x="3471" y="8131"/>
                  <a:pt x="3547" y="8136"/>
                </a:cubicBezTo>
                <a:cubicBezTo>
                  <a:pt x="3809" y="8154"/>
                  <a:pt x="4080" y="8097"/>
                  <a:pt x="4341" y="8086"/>
                </a:cubicBezTo>
                <a:cubicBezTo>
                  <a:pt x="4448" y="8081"/>
                  <a:pt x="4556" y="8086"/>
                  <a:pt x="4663" y="8086"/>
                </a:cubicBezTo>
              </a:path>
              <a:path w="5656" h="5806">
                <a:moveTo>
                  <a:pt x="3770" y="8260"/>
                </a:moveTo>
                <a:cubicBezTo>
                  <a:pt x="3783" y="8390"/>
                  <a:pt x="3815" y="8524"/>
                  <a:pt x="3795" y="8657"/>
                </a:cubicBezTo>
                <a:cubicBezTo>
                  <a:pt x="3776" y="8714"/>
                  <a:pt x="3750" y="8739"/>
                  <a:pt x="3795" y="8731"/>
                </a:cubicBezTo>
              </a:path>
              <a:path w="5656" h="5806">
                <a:moveTo>
                  <a:pt x="4068" y="8409"/>
                </a:moveTo>
                <a:cubicBezTo>
                  <a:pt x="4084" y="8518"/>
                  <a:pt x="4114" y="8620"/>
                  <a:pt x="4118" y="8731"/>
                </a:cubicBezTo>
                <a:cubicBezTo>
                  <a:pt x="4118" y="8789"/>
                  <a:pt x="4118" y="8797"/>
                  <a:pt x="4118" y="8830"/>
                </a:cubicBezTo>
              </a:path>
              <a:path w="5656" h="5806">
                <a:moveTo>
                  <a:pt x="3969" y="7119"/>
                </a:moveTo>
                <a:cubicBezTo>
                  <a:pt x="3969" y="7260"/>
                  <a:pt x="3984" y="7350"/>
                  <a:pt x="3994" y="7491"/>
                </a:cubicBezTo>
                <a:cubicBezTo>
                  <a:pt x="4022" y="7888"/>
                  <a:pt x="4067" y="8285"/>
                  <a:pt x="4093" y="8682"/>
                </a:cubicBezTo>
                <a:cubicBezTo>
                  <a:pt x="4100" y="8785"/>
                  <a:pt x="4082" y="8829"/>
                  <a:pt x="4068" y="8905"/>
                </a:cubicBezTo>
                <a:cubicBezTo>
                  <a:pt x="4058" y="8958"/>
                  <a:pt x="4049" y="9028"/>
                  <a:pt x="4043" y="9079"/>
                </a:cubicBezTo>
                <a:cubicBezTo>
                  <a:pt x="4032" y="9173"/>
                  <a:pt x="4001" y="9201"/>
                  <a:pt x="4043" y="9203"/>
                </a:cubicBezTo>
                <a:cubicBezTo>
                  <a:pt x="4043" y="9106"/>
                  <a:pt x="4034" y="9027"/>
                  <a:pt x="4018" y="8930"/>
                </a:cubicBezTo>
              </a:path>
              <a:path w="5656" h="5806">
                <a:moveTo>
                  <a:pt x="3919" y="7169"/>
                </a:moveTo>
                <a:cubicBezTo>
                  <a:pt x="3908" y="7338"/>
                  <a:pt x="3896" y="7493"/>
                  <a:pt x="3894" y="7665"/>
                </a:cubicBezTo>
                <a:cubicBezTo>
                  <a:pt x="3890" y="7996"/>
                  <a:pt x="3941" y="8325"/>
                  <a:pt x="3919" y="8657"/>
                </a:cubicBezTo>
                <a:cubicBezTo>
                  <a:pt x="3907" y="8836"/>
                  <a:pt x="3885" y="9030"/>
                  <a:pt x="3845" y="9203"/>
                </a:cubicBezTo>
              </a:path>
              <a:path w="5656" h="5806">
                <a:moveTo>
                  <a:pt x="6052" y="8111"/>
                </a:moveTo>
                <a:cubicBezTo>
                  <a:pt x="6250" y="8136"/>
                  <a:pt x="6447" y="8147"/>
                  <a:pt x="6648" y="8136"/>
                </a:cubicBezTo>
                <a:cubicBezTo>
                  <a:pt x="6880" y="8123"/>
                  <a:pt x="7111" y="8100"/>
                  <a:pt x="7342" y="8086"/>
                </a:cubicBezTo>
                <a:cubicBezTo>
                  <a:pt x="7350" y="8086"/>
                  <a:pt x="7359" y="8086"/>
                  <a:pt x="7367" y="8086"/>
                </a:cubicBezTo>
              </a:path>
              <a:path w="5656" h="5806">
                <a:moveTo>
                  <a:pt x="6499" y="8334"/>
                </a:moveTo>
                <a:cubicBezTo>
                  <a:pt x="6499" y="8217"/>
                  <a:pt x="6523" y="8388"/>
                  <a:pt x="6524" y="8409"/>
                </a:cubicBezTo>
                <a:cubicBezTo>
                  <a:pt x="6533" y="8549"/>
                  <a:pt x="6524" y="8781"/>
                  <a:pt x="6524" y="8781"/>
                </a:cubicBezTo>
              </a:path>
              <a:path w="5656" h="5806">
                <a:moveTo>
                  <a:pt x="6846" y="8310"/>
                </a:moveTo>
                <a:cubicBezTo>
                  <a:pt x="6846" y="8383"/>
                  <a:pt x="6863" y="8438"/>
                  <a:pt x="6871" y="8508"/>
                </a:cubicBezTo>
                <a:cubicBezTo>
                  <a:pt x="6876" y="8554"/>
                  <a:pt x="6866" y="8726"/>
                  <a:pt x="6896" y="8756"/>
                </a:cubicBezTo>
                <a:cubicBezTo>
                  <a:pt x="6904" y="8756"/>
                  <a:pt x="6913" y="8756"/>
                  <a:pt x="6921" y="8756"/>
                </a:cubicBezTo>
              </a:path>
              <a:path w="5656" h="5806">
                <a:moveTo>
                  <a:pt x="5556" y="9649"/>
                </a:moveTo>
                <a:cubicBezTo>
                  <a:pt x="5652" y="9617"/>
                  <a:pt x="5719" y="9580"/>
                  <a:pt x="5829" y="9575"/>
                </a:cubicBezTo>
                <a:cubicBezTo>
                  <a:pt x="5846" y="9575"/>
                  <a:pt x="5862" y="9575"/>
                  <a:pt x="5879" y="9575"/>
                </a:cubicBezTo>
              </a:path>
              <a:path w="5656" h="5806">
                <a:moveTo>
                  <a:pt x="6524" y="9376"/>
                </a:moveTo>
                <a:cubicBezTo>
                  <a:pt x="6574" y="9577"/>
                  <a:pt x="6649" y="9810"/>
                  <a:pt x="6623" y="10021"/>
                </a:cubicBezTo>
                <a:cubicBezTo>
                  <a:pt x="6609" y="10129"/>
                  <a:pt x="6637" y="10003"/>
                  <a:pt x="6672" y="9947"/>
                </a:cubicBezTo>
              </a:path>
              <a:path w="5656" h="5806">
                <a:moveTo>
                  <a:pt x="7020" y="9376"/>
                </a:moveTo>
                <a:cubicBezTo>
                  <a:pt x="7057" y="9560"/>
                  <a:pt x="7096" y="9758"/>
                  <a:pt x="7069" y="9947"/>
                </a:cubicBezTo>
                <a:cubicBezTo>
                  <a:pt x="7061" y="9972"/>
                  <a:pt x="7053" y="9996"/>
                  <a:pt x="7045" y="10021"/>
                </a:cubicBezTo>
              </a:path>
              <a:path w="5656" h="5806">
                <a:moveTo>
                  <a:pt x="4638" y="9599"/>
                </a:moveTo>
                <a:cubicBezTo>
                  <a:pt x="4638" y="9719"/>
                  <a:pt x="4675" y="9829"/>
                  <a:pt x="4688" y="9947"/>
                </a:cubicBezTo>
                <a:cubicBezTo>
                  <a:pt x="4695" y="10010"/>
                  <a:pt x="4728" y="10061"/>
                  <a:pt x="4688" y="10021"/>
                </a:cubicBezTo>
                <a:cubicBezTo>
                  <a:pt x="4688" y="9834"/>
                  <a:pt x="4650" y="9622"/>
                  <a:pt x="4738" y="9451"/>
                </a:cubicBezTo>
                <a:cubicBezTo>
                  <a:pt x="4754" y="9434"/>
                  <a:pt x="4771" y="9418"/>
                  <a:pt x="4787" y="9401"/>
                </a:cubicBezTo>
                <a:cubicBezTo>
                  <a:pt x="4962" y="9448"/>
                  <a:pt x="5074" y="9568"/>
                  <a:pt x="5135" y="9748"/>
                </a:cubicBezTo>
                <a:cubicBezTo>
                  <a:pt x="5170" y="9851"/>
                  <a:pt x="5159" y="9965"/>
                  <a:pt x="5159" y="10071"/>
                </a:cubicBezTo>
              </a:path>
              <a:path w="5656" h="5806">
                <a:moveTo>
                  <a:pt x="5606" y="4986"/>
                </a:moveTo>
                <a:cubicBezTo>
                  <a:pt x="5577" y="5095"/>
                  <a:pt x="5578" y="5146"/>
                  <a:pt x="5581" y="5259"/>
                </a:cubicBezTo>
                <a:cubicBezTo>
                  <a:pt x="5589" y="5540"/>
                  <a:pt x="5581" y="5821"/>
                  <a:pt x="5581" y="6102"/>
                </a:cubicBezTo>
                <a:cubicBezTo>
                  <a:pt x="5905" y="6102"/>
                  <a:pt x="6225" y="6080"/>
                  <a:pt x="6548" y="6077"/>
                </a:cubicBezTo>
                <a:cubicBezTo>
                  <a:pt x="6921" y="6073"/>
                  <a:pt x="7293" y="6039"/>
                  <a:pt x="7665" y="6028"/>
                </a:cubicBezTo>
                <a:cubicBezTo>
                  <a:pt x="7986" y="6019"/>
                  <a:pt x="8314" y="6027"/>
                  <a:pt x="8632" y="5978"/>
                </a:cubicBezTo>
                <a:cubicBezTo>
                  <a:pt x="8714" y="5965"/>
                  <a:pt x="8883" y="5936"/>
                  <a:pt x="8930" y="5928"/>
                </a:cubicBezTo>
                <a:cubicBezTo>
                  <a:pt x="8938" y="5928"/>
                  <a:pt x="8946" y="5928"/>
                  <a:pt x="8954" y="5928"/>
                </a:cubicBezTo>
                <a:cubicBezTo>
                  <a:pt x="8954" y="5728"/>
                  <a:pt x="8976" y="5533"/>
                  <a:pt x="8979" y="5333"/>
                </a:cubicBezTo>
                <a:cubicBezTo>
                  <a:pt x="8983" y="5100"/>
                  <a:pt x="9044" y="4746"/>
                  <a:pt x="8954" y="4539"/>
                </a:cubicBezTo>
                <a:cubicBezTo>
                  <a:pt x="8954" y="4511"/>
                  <a:pt x="8952" y="4505"/>
                  <a:pt x="8930" y="4539"/>
                </a:cubicBezTo>
              </a:path>
              <a:path w="5656" h="5806">
                <a:moveTo>
                  <a:pt x="4514" y="9227"/>
                </a:moveTo>
                <a:cubicBezTo>
                  <a:pt x="4552" y="9377"/>
                  <a:pt x="4580" y="9540"/>
                  <a:pt x="4589" y="9699"/>
                </a:cubicBezTo>
                <a:cubicBezTo>
                  <a:pt x="4600" y="9898"/>
                  <a:pt x="4564" y="10094"/>
                  <a:pt x="4564" y="10294"/>
                </a:cubicBezTo>
                <a:cubicBezTo>
                  <a:pt x="4541" y="10317"/>
                  <a:pt x="4530" y="10325"/>
                  <a:pt x="4564" y="10319"/>
                </a:cubicBezTo>
                <a:cubicBezTo>
                  <a:pt x="4708" y="10303"/>
                  <a:pt x="4840" y="10266"/>
                  <a:pt x="4986" y="10244"/>
                </a:cubicBezTo>
                <a:cubicBezTo>
                  <a:pt x="5280" y="10201"/>
                  <a:pt x="5583" y="10179"/>
                  <a:pt x="5879" y="10170"/>
                </a:cubicBezTo>
                <a:cubicBezTo>
                  <a:pt x="6169" y="10161"/>
                  <a:pt x="6458" y="10150"/>
                  <a:pt x="6747" y="10145"/>
                </a:cubicBezTo>
                <a:cubicBezTo>
                  <a:pt x="6870" y="10143"/>
                  <a:pt x="6977" y="10150"/>
                  <a:pt x="7094" y="10120"/>
                </a:cubicBezTo>
                <a:cubicBezTo>
                  <a:pt x="7125" y="10112"/>
                  <a:pt x="7162" y="10107"/>
                  <a:pt x="7193" y="10096"/>
                </a:cubicBezTo>
                <a:cubicBezTo>
                  <a:pt x="7224" y="10084"/>
                  <a:pt x="7241" y="10090"/>
                  <a:pt x="7268" y="10071"/>
                </a:cubicBezTo>
                <a:cubicBezTo>
                  <a:pt x="7301" y="10048"/>
                  <a:pt x="7310" y="9989"/>
                  <a:pt x="7317" y="9922"/>
                </a:cubicBezTo>
                <a:cubicBezTo>
                  <a:pt x="7339" y="9701"/>
                  <a:pt x="7321" y="9472"/>
                  <a:pt x="7342" y="9252"/>
                </a:cubicBezTo>
                <a:cubicBezTo>
                  <a:pt x="7348" y="9192"/>
                  <a:pt x="7328" y="9178"/>
                  <a:pt x="7317" y="9128"/>
                </a:cubicBezTo>
                <a:cubicBezTo>
                  <a:pt x="7310" y="9099"/>
                  <a:pt x="7279" y="9016"/>
                  <a:pt x="7243" y="9004"/>
                </a:cubicBezTo>
                <a:cubicBezTo>
                  <a:pt x="7172" y="8980"/>
                  <a:pt x="7083" y="9023"/>
                  <a:pt x="7020" y="9029"/>
                </a:cubicBezTo>
                <a:cubicBezTo>
                  <a:pt x="6814" y="9048"/>
                  <a:pt x="6602" y="9024"/>
                  <a:pt x="6400" y="9004"/>
                </a:cubicBezTo>
                <a:cubicBezTo>
                  <a:pt x="6268" y="8991"/>
                  <a:pt x="6133" y="8993"/>
                  <a:pt x="6003" y="8979"/>
                </a:cubicBezTo>
                <a:cubicBezTo>
                  <a:pt x="5904" y="8968"/>
                  <a:pt x="5804" y="8957"/>
                  <a:pt x="5705" y="8954"/>
                </a:cubicBezTo>
                <a:cubicBezTo>
                  <a:pt x="5560" y="8950"/>
                  <a:pt x="5427" y="8975"/>
                  <a:pt x="5283" y="8979"/>
                </a:cubicBezTo>
                <a:cubicBezTo>
                  <a:pt x="5164" y="8982"/>
                  <a:pt x="5051" y="8993"/>
                  <a:pt x="4936" y="9004"/>
                </a:cubicBezTo>
                <a:cubicBezTo>
                  <a:pt x="4847" y="9012"/>
                  <a:pt x="4750" y="9011"/>
                  <a:pt x="4663" y="9029"/>
                </a:cubicBezTo>
                <a:cubicBezTo>
                  <a:pt x="4633" y="9035"/>
                  <a:pt x="4566" y="9040"/>
                  <a:pt x="4539" y="9054"/>
                </a:cubicBezTo>
                <a:cubicBezTo>
                  <a:pt x="4539" y="9062"/>
                  <a:pt x="4539" y="9071"/>
                  <a:pt x="4539" y="907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527200" y="4554360"/>
            <a:ext cx="473040" cy="204840"/>
          </a:xfrm>
          <a:custGeom>
            <a:avLst/>
            <a:gdLst/>
            <a:ahLst/>
            <a:rect l="l" t="t" r="r" b="b"/>
            <a:pathLst>
              <a:path w="1315" h="572">
                <a:moveTo>
                  <a:pt x="7069" y="12799"/>
                </a:moveTo>
                <a:cubicBezTo>
                  <a:pt x="7079" y="12859"/>
                  <a:pt x="7094" y="12910"/>
                  <a:pt x="7094" y="12973"/>
                </a:cubicBezTo>
              </a:path>
              <a:path w="1315" h="572">
                <a:moveTo>
                  <a:pt x="7020" y="12898"/>
                </a:moveTo>
                <a:cubicBezTo>
                  <a:pt x="7107" y="12898"/>
                  <a:pt x="7182" y="12878"/>
                  <a:pt x="7268" y="12874"/>
                </a:cubicBezTo>
                <a:cubicBezTo>
                  <a:pt x="7284" y="12874"/>
                  <a:pt x="7301" y="12874"/>
                  <a:pt x="7317" y="12874"/>
                </a:cubicBezTo>
              </a:path>
              <a:path w="1315" h="572">
                <a:moveTo>
                  <a:pt x="7615" y="12750"/>
                </a:moveTo>
                <a:cubicBezTo>
                  <a:pt x="7692" y="12750"/>
                  <a:pt x="7743" y="12748"/>
                  <a:pt x="7813" y="12774"/>
                </a:cubicBezTo>
                <a:cubicBezTo>
                  <a:pt x="7780" y="12890"/>
                  <a:pt x="7723" y="12960"/>
                  <a:pt x="7640" y="13047"/>
                </a:cubicBezTo>
                <a:cubicBezTo>
                  <a:pt x="7601" y="13086"/>
                  <a:pt x="7599" y="13103"/>
                  <a:pt x="7565" y="13097"/>
                </a:cubicBezTo>
                <a:cubicBezTo>
                  <a:pt x="7670" y="13097"/>
                  <a:pt x="7761" y="13099"/>
                  <a:pt x="7863" y="13072"/>
                </a:cubicBezTo>
                <a:cubicBezTo>
                  <a:pt x="7888" y="13064"/>
                  <a:pt x="7913" y="13055"/>
                  <a:pt x="7938" y="13047"/>
                </a:cubicBezTo>
              </a:path>
              <a:path w="1315" h="572">
                <a:moveTo>
                  <a:pt x="8285" y="12650"/>
                </a:moveTo>
                <a:cubicBezTo>
                  <a:pt x="8285" y="12780"/>
                  <a:pt x="8289" y="12920"/>
                  <a:pt x="8310" y="13047"/>
                </a:cubicBezTo>
                <a:cubicBezTo>
                  <a:pt x="8323" y="13127"/>
                  <a:pt x="8323" y="13141"/>
                  <a:pt x="8310" y="1322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43000" y="1401840"/>
            <a:ext cx="1992240" cy="662040"/>
          </a:xfrm>
          <a:custGeom>
            <a:avLst/>
            <a:gdLst/>
            <a:ahLst/>
            <a:rect l="l" t="t" r="r" b="b"/>
            <a:pathLst>
              <a:path w="5532" h="1837">
                <a:moveTo>
                  <a:pt x="8334" y="4961"/>
                </a:moveTo>
                <a:cubicBezTo>
                  <a:pt x="8287" y="5068"/>
                  <a:pt x="8239" y="5139"/>
                  <a:pt x="8359" y="5209"/>
                </a:cubicBezTo>
                <a:cubicBezTo>
                  <a:pt x="8471" y="5275"/>
                  <a:pt x="8619" y="5242"/>
                  <a:pt x="8682" y="5135"/>
                </a:cubicBezTo>
                <a:cubicBezTo>
                  <a:pt x="8690" y="5110"/>
                  <a:pt x="8698" y="5085"/>
                  <a:pt x="8706" y="5060"/>
                </a:cubicBezTo>
              </a:path>
              <a:path w="5532" h="1837">
                <a:moveTo>
                  <a:pt x="5705" y="5184"/>
                </a:moveTo>
                <a:cubicBezTo>
                  <a:pt x="5808" y="5319"/>
                  <a:pt x="5935" y="5448"/>
                  <a:pt x="6003" y="5606"/>
                </a:cubicBezTo>
                <a:cubicBezTo>
                  <a:pt x="6003" y="5614"/>
                  <a:pt x="6003" y="5623"/>
                  <a:pt x="6003" y="5631"/>
                </a:cubicBezTo>
              </a:path>
              <a:path w="5532" h="1837">
                <a:moveTo>
                  <a:pt x="6028" y="5110"/>
                </a:moveTo>
                <a:cubicBezTo>
                  <a:pt x="5937" y="5298"/>
                  <a:pt x="5854" y="5487"/>
                  <a:pt x="5779" y="5680"/>
                </a:cubicBezTo>
                <a:cubicBezTo>
                  <a:pt x="5760" y="5721"/>
                  <a:pt x="5741" y="5737"/>
                  <a:pt x="5779" y="5730"/>
                </a:cubicBezTo>
              </a:path>
              <a:path w="5532" h="1837">
                <a:moveTo>
                  <a:pt x="6499" y="5308"/>
                </a:moveTo>
                <a:cubicBezTo>
                  <a:pt x="6606" y="5308"/>
                  <a:pt x="6692" y="5275"/>
                  <a:pt x="6796" y="5259"/>
                </a:cubicBezTo>
                <a:cubicBezTo>
                  <a:pt x="6813" y="5259"/>
                  <a:pt x="6829" y="5259"/>
                  <a:pt x="6846" y="5259"/>
                </a:cubicBezTo>
              </a:path>
              <a:path w="5532" h="1837">
                <a:moveTo>
                  <a:pt x="6548" y="5432"/>
                </a:moveTo>
                <a:cubicBezTo>
                  <a:pt x="6674" y="5425"/>
                  <a:pt x="6794" y="5407"/>
                  <a:pt x="6921" y="5407"/>
                </a:cubicBezTo>
              </a:path>
              <a:path w="5532" h="1837">
                <a:moveTo>
                  <a:pt x="3175" y="4167"/>
                </a:moveTo>
                <a:cubicBezTo>
                  <a:pt x="3262" y="4167"/>
                  <a:pt x="3338" y="4129"/>
                  <a:pt x="3423" y="4118"/>
                </a:cubicBezTo>
                <a:cubicBezTo>
                  <a:pt x="3448" y="4118"/>
                  <a:pt x="3472" y="4118"/>
                  <a:pt x="3497" y="4118"/>
                </a:cubicBezTo>
              </a:path>
              <a:path w="5532" h="1837">
                <a:moveTo>
                  <a:pt x="3795" y="3944"/>
                </a:moveTo>
                <a:cubicBezTo>
                  <a:pt x="3795" y="4062"/>
                  <a:pt x="3786" y="4176"/>
                  <a:pt x="3820" y="4291"/>
                </a:cubicBezTo>
                <a:cubicBezTo>
                  <a:pt x="3844" y="4339"/>
                  <a:pt x="3852" y="4353"/>
                  <a:pt x="3845" y="4390"/>
                </a:cubicBezTo>
              </a:path>
              <a:path w="5532" h="1837">
                <a:moveTo>
                  <a:pt x="3969" y="3944"/>
                </a:moveTo>
                <a:cubicBezTo>
                  <a:pt x="4049" y="3931"/>
                  <a:pt x="4138" y="3863"/>
                  <a:pt x="4217" y="3919"/>
                </a:cubicBezTo>
                <a:cubicBezTo>
                  <a:pt x="4303" y="3980"/>
                  <a:pt x="4195" y="4116"/>
                  <a:pt x="4167" y="4167"/>
                </a:cubicBezTo>
                <a:cubicBezTo>
                  <a:pt x="4145" y="4211"/>
                  <a:pt x="4142" y="4222"/>
                  <a:pt x="4118" y="4242"/>
                </a:cubicBezTo>
                <a:cubicBezTo>
                  <a:pt x="4177" y="4286"/>
                  <a:pt x="4199" y="4253"/>
                  <a:pt x="4266" y="4242"/>
                </a:cubicBezTo>
                <a:cubicBezTo>
                  <a:pt x="4308" y="4242"/>
                  <a:pt x="4316" y="4242"/>
                  <a:pt x="4341" y="4242"/>
                </a:cubicBezTo>
              </a:path>
              <a:path w="5532" h="1837">
                <a:moveTo>
                  <a:pt x="4242" y="5085"/>
                </a:moveTo>
                <a:cubicBezTo>
                  <a:pt x="4242" y="5031"/>
                  <a:pt x="4189" y="5130"/>
                  <a:pt x="4192" y="5184"/>
                </a:cubicBezTo>
                <a:cubicBezTo>
                  <a:pt x="4197" y="5291"/>
                  <a:pt x="4343" y="5250"/>
                  <a:pt x="4390" y="5209"/>
                </a:cubicBezTo>
                <a:cubicBezTo>
                  <a:pt x="4423" y="5180"/>
                  <a:pt x="4438" y="5089"/>
                  <a:pt x="4390" y="5085"/>
                </a:cubicBezTo>
                <a:cubicBezTo>
                  <a:pt x="4341" y="5085"/>
                  <a:pt x="4324" y="5085"/>
                  <a:pt x="4291" y="508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04960" y="4616280"/>
            <a:ext cx="90360" cy="115920"/>
          </a:xfrm>
          <a:custGeom>
            <a:avLst/>
            <a:gdLst/>
            <a:ahLst/>
            <a:rect l="l" t="t" r="r" b="b"/>
            <a:pathLst>
              <a:path w="249" h="323">
                <a:moveTo>
                  <a:pt x="4762" y="12824"/>
                </a:moveTo>
                <a:cubicBezTo>
                  <a:pt x="4794" y="12934"/>
                  <a:pt x="4812" y="13003"/>
                  <a:pt x="4812" y="13122"/>
                </a:cubicBezTo>
                <a:cubicBezTo>
                  <a:pt x="4812" y="13130"/>
                  <a:pt x="4812" y="13138"/>
                  <a:pt x="4812" y="13146"/>
                </a:cubicBezTo>
              </a:path>
              <a:path w="249" h="323">
                <a:moveTo>
                  <a:pt x="4738" y="12998"/>
                </a:moveTo>
                <a:cubicBezTo>
                  <a:pt x="4810" y="12998"/>
                  <a:pt x="4864" y="12978"/>
                  <a:pt x="4936" y="12973"/>
                </a:cubicBezTo>
                <a:cubicBezTo>
                  <a:pt x="4961" y="12973"/>
                  <a:pt x="4969" y="12973"/>
                  <a:pt x="4986" y="1297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938240" y="4562640"/>
            <a:ext cx="142920" cy="196560"/>
          </a:xfrm>
          <a:custGeom>
            <a:avLst/>
            <a:gdLst/>
            <a:ahLst/>
            <a:rect l="l" t="t" r="r" b="b"/>
            <a:pathLst>
              <a:path w="397" h="547">
                <a:moveTo>
                  <a:pt x="5432" y="12774"/>
                </a:moveTo>
                <a:cubicBezTo>
                  <a:pt x="5501" y="12757"/>
                  <a:pt x="5552" y="12693"/>
                  <a:pt x="5631" y="12675"/>
                </a:cubicBezTo>
                <a:cubicBezTo>
                  <a:pt x="5647" y="12675"/>
                  <a:pt x="5664" y="12675"/>
                  <a:pt x="5680" y="12675"/>
                </a:cubicBezTo>
                <a:cubicBezTo>
                  <a:pt x="5734" y="12800"/>
                  <a:pt x="5670" y="12894"/>
                  <a:pt x="5581" y="12998"/>
                </a:cubicBezTo>
                <a:cubicBezTo>
                  <a:pt x="5512" y="13078"/>
                  <a:pt x="5440" y="13134"/>
                  <a:pt x="5383" y="13221"/>
                </a:cubicBezTo>
                <a:cubicBezTo>
                  <a:pt x="5499" y="13204"/>
                  <a:pt x="5614" y="13163"/>
                  <a:pt x="5730" y="13146"/>
                </a:cubicBezTo>
                <a:cubicBezTo>
                  <a:pt x="5746" y="13146"/>
                  <a:pt x="5763" y="13146"/>
                  <a:pt x="5779" y="1314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187720" y="4562640"/>
            <a:ext cx="9360" cy="188640"/>
          </a:xfrm>
          <a:custGeom>
            <a:avLst/>
            <a:gdLst/>
            <a:ahLst/>
            <a:rect l="l" t="t" r="r" b="b"/>
            <a:pathLst>
              <a:path w="26" h="522">
                <a:moveTo>
                  <a:pt x="6077" y="12675"/>
                </a:moveTo>
                <a:cubicBezTo>
                  <a:pt x="6100" y="12834"/>
                  <a:pt x="6102" y="12985"/>
                  <a:pt x="6102" y="13146"/>
                </a:cubicBezTo>
                <a:cubicBezTo>
                  <a:pt x="6102" y="13163"/>
                  <a:pt x="6102" y="13179"/>
                  <a:pt x="6102" y="1319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268280" y="1598760"/>
            <a:ext cx="2044800" cy="196560"/>
          </a:xfrm>
          <a:custGeom>
            <a:avLst/>
            <a:gdLst/>
            <a:ahLst/>
            <a:rect l="l" t="t" r="r" b="b"/>
            <a:pathLst>
              <a:path w="5682" h="547">
                <a:moveTo>
                  <a:pt x="3522" y="4986"/>
                </a:moveTo>
                <a:cubicBezTo>
                  <a:pt x="3713" y="4943"/>
                  <a:pt x="3866" y="4936"/>
                  <a:pt x="4068" y="4936"/>
                </a:cubicBezTo>
                <a:cubicBezTo>
                  <a:pt x="4551" y="4936"/>
                  <a:pt x="5026" y="4872"/>
                  <a:pt x="5507" y="4837"/>
                </a:cubicBezTo>
                <a:cubicBezTo>
                  <a:pt x="6229" y="4785"/>
                  <a:pt x="6948" y="4745"/>
                  <a:pt x="7665" y="4663"/>
                </a:cubicBezTo>
                <a:cubicBezTo>
                  <a:pt x="7980" y="4627"/>
                  <a:pt x="8292" y="4583"/>
                  <a:pt x="8607" y="4539"/>
                </a:cubicBezTo>
                <a:cubicBezTo>
                  <a:pt x="8801" y="4512"/>
                  <a:pt x="8997" y="4472"/>
                  <a:pt x="9178" y="4465"/>
                </a:cubicBezTo>
                <a:cubicBezTo>
                  <a:pt x="9186" y="4465"/>
                  <a:pt x="9195" y="4465"/>
                  <a:pt x="9203" y="446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081080" y="4911840"/>
            <a:ext cx="2286000" cy="54000"/>
          </a:xfrm>
          <a:custGeom>
            <a:avLst/>
            <a:gdLst/>
            <a:ahLst/>
            <a:rect l="l" t="t" r="r" b="b"/>
            <a:pathLst>
              <a:path w="6351" h="149">
                <a:moveTo>
                  <a:pt x="3001" y="13643"/>
                </a:moveTo>
                <a:cubicBezTo>
                  <a:pt x="3998" y="13643"/>
                  <a:pt x="4983" y="13732"/>
                  <a:pt x="5978" y="13767"/>
                </a:cubicBezTo>
                <a:cubicBezTo>
                  <a:pt x="6666" y="13791"/>
                  <a:pt x="7350" y="13751"/>
                  <a:pt x="8037" y="13767"/>
                </a:cubicBezTo>
                <a:cubicBezTo>
                  <a:pt x="8475" y="13777"/>
                  <a:pt x="8912" y="13791"/>
                  <a:pt x="9351" y="1379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371600" y="1980720"/>
            <a:ext cx="6400800" cy="20322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Unit 5</a:t>
            </a:r>
            <a:br>
              <a:rPr sz="4000"/>
            </a:b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Expressions, Equations and Integers</a:t>
            </a:r>
            <a:endParaRPr b="0" lang="en-US" sz="4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tions 11.1: Read, write and represent integer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"/>
          <p:cNvSpPr/>
          <p:nvPr/>
        </p:nvSpPr>
        <p:spPr>
          <a:xfrm>
            <a:off x="61920" y="2276640"/>
            <a:ext cx="4983120" cy="3849480"/>
          </a:xfrm>
          <a:custGeom>
            <a:avLst/>
            <a:gdLst/>
            <a:ahLst/>
            <a:rect l="l" t="t" r="r" b="b"/>
            <a:pathLst>
              <a:path w="13842" h="10692">
                <a:moveTo>
                  <a:pt x="14015" y="6325"/>
                </a:moveTo>
                <a:lnTo>
                  <a:pt x="14015" y="6325"/>
                </a:lnTo>
              </a:path>
              <a:path w="13842" h="10692">
                <a:moveTo>
                  <a:pt x="174" y="17016"/>
                </a:moveTo>
                <a:lnTo>
                  <a:pt x="174" y="17016"/>
                </a:lnTo>
              </a:path>
              <a:path w="13842" h="10692">
                <a:moveTo>
                  <a:pt x="10046" y="10468"/>
                </a:moveTo>
                <a:lnTo>
                  <a:pt x="10046" y="10468"/>
                </a:lnTo>
                <a:lnTo>
                  <a:pt x="10046" y="10468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741920" y="4884840"/>
            <a:ext cx="1438200" cy="133200"/>
          </a:xfrm>
          <a:custGeom>
            <a:avLst/>
            <a:gdLst/>
            <a:ahLst/>
            <a:rect l="l" t="t" r="r" b="b"/>
            <a:pathLst>
              <a:path w="3995" h="373">
                <a:moveTo>
                  <a:pt x="13221" y="13866"/>
                </a:moveTo>
                <a:cubicBezTo>
                  <a:pt x="13279" y="13866"/>
                  <a:pt x="13237" y="13866"/>
                  <a:pt x="13295" y="13866"/>
                </a:cubicBezTo>
                <a:cubicBezTo>
                  <a:pt x="13408" y="13866"/>
                  <a:pt x="13510" y="13879"/>
                  <a:pt x="13618" y="13891"/>
                </a:cubicBezTo>
                <a:cubicBezTo>
                  <a:pt x="13714" y="13901"/>
                  <a:pt x="13821" y="13897"/>
                  <a:pt x="13915" y="13915"/>
                </a:cubicBezTo>
                <a:cubicBezTo>
                  <a:pt x="14002" y="13931"/>
                  <a:pt x="14073" y="13940"/>
                  <a:pt x="14163" y="13940"/>
                </a:cubicBezTo>
                <a:cubicBezTo>
                  <a:pt x="14291" y="13940"/>
                  <a:pt x="14412" y="13929"/>
                  <a:pt x="14536" y="13915"/>
                </a:cubicBezTo>
                <a:cubicBezTo>
                  <a:pt x="14626" y="13905"/>
                  <a:pt x="14720" y="13900"/>
                  <a:pt x="14808" y="13891"/>
                </a:cubicBezTo>
                <a:cubicBezTo>
                  <a:pt x="14930" y="13878"/>
                  <a:pt x="15058" y="13861"/>
                  <a:pt x="15180" y="13841"/>
                </a:cubicBezTo>
                <a:cubicBezTo>
                  <a:pt x="15310" y="13820"/>
                  <a:pt x="15449" y="13792"/>
                  <a:pt x="15577" y="13767"/>
                </a:cubicBezTo>
                <a:cubicBezTo>
                  <a:pt x="15710" y="13741"/>
                  <a:pt x="15838" y="13702"/>
                  <a:pt x="15974" y="13692"/>
                </a:cubicBezTo>
                <a:cubicBezTo>
                  <a:pt x="16132" y="13681"/>
                  <a:pt x="16288" y="13653"/>
                  <a:pt x="16446" y="13643"/>
                </a:cubicBezTo>
                <a:cubicBezTo>
                  <a:pt x="16559" y="13636"/>
                  <a:pt x="16680" y="13636"/>
                  <a:pt x="16793" y="13618"/>
                </a:cubicBezTo>
                <a:cubicBezTo>
                  <a:pt x="16846" y="13610"/>
                  <a:pt x="16889" y="13597"/>
                  <a:pt x="16942" y="13593"/>
                </a:cubicBezTo>
                <a:cubicBezTo>
                  <a:pt x="17019" y="13587"/>
                  <a:pt x="17093" y="13590"/>
                  <a:pt x="17165" y="13568"/>
                </a:cubicBezTo>
                <a:cubicBezTo>
                  <a:pt x="17157" y="13568"/>
                  <a:pt x="17148" y="13568"/>
                  <a:pt x="17140" y="13568"/>
                </a:cubicBezTo>
                <a:cubicBezTo>
                  <a:pt x="16996" y="13617"/>
                  <a:pt x="16847" y="13636"/>
                  <a:pt x="16694" y="13643"/>
                </a:cubicBezTo>
                <a:cubicBezTo>
                  <a:pt x="16437" y="13654"/>
                  <a:pt x="16183" y="13667"/>
                  <a:pt x="15925" y="13667"/>
                </a:cubicBezTo>
                <a:cubicBezTo>
                  <a:pt x="15761" y="13667"/>
                  <a:pt x="15561" y="13632"/>
                  <a:pt x="15404" y="13643"/>
                </a:cubicBezTo>
                <a:cubicBezTo>
                  <a:pt x="15316" y="13649"/>
                  <a:pt x="15195" y="13653"/>
                  <a:pt x="15106" y="13667"/>
                </a:cubicBezTo>
                <a:cubicBezTo>
                  <a:pt x="14984" y="13686"/>
                  <a:pt x="14856" y="13696"/>
                  <a:pt x="14734" y="13717"/>
                </a:cubicBezTo>
                <a:cubicBezTo>
                  <a:pt x="14626" y="13735"/>
                  <a:pt x="14518" y="13748"/>
                  <a:pt x="14412" y="13767"/>
                </a:cubicBezTo>
                <a:cubicBezTo>
                  <a:pt x="14297" y="13788"/>
                  <a:pt x="14179" y="13828"/>
                  <a:pt x="14064" y="13841"/>
                </a:cubicBezTo>
                <a:cubicBezTo>
                  <a:pt x="13940" y="13855"/>
                  <a:pt x="13816" y="13873"/>
                  <a:pt x="13692" y="13891"/>
                </a:cubicBezTo>
                <a:cubicBezTo>
                  <a:pt x="13611" y="13903"/>
                  <a:pt x="13529" y="13932"/>
                  <a:pt x="13444" y="13940"/>
                </a:cubicBezTo>
                <a:cubicBezTo>
                  <a:pt x="13355" y="13948"/>
                  <a:pt x="13261" y="13940"/>
                  <a:pt x="13171" y="1394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304920"/>
            <a:ext cx="6870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Objective: Read, write and represent integers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-360" y="21337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6600"/>
                </a:solidFill>
                <a:uFillTx/>
                <a:latin typeface="Comic Sans MS"/>
              </a:rPr>
              <a:t>Vocabular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omic Sans MS"/>
              </a:rPr>
              <a:t>Integers are often used to represent real-world quantities (-3, -2, -1, 0 , 1, 2, 3)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omic Sans MS"/>
              </a:rPr>
              <a:t>Positive Integers: Integers that are greater </a:t>
            </a:r>
            <a:r>
              <a:rPr b="0" lang="en-US" sz="2000" spc="-1" strike="noStrike">
                <a:solidFill>
                  <a:srgbClr val="0066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66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66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66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6600"/>
                </a:solidFill>
                <a:latin typeface="Comic Sans MS"/>
              </a:rPr>
              <a:t>than 0. (words like: profit, increase, gain and above </a:t>
            </a:r>
            <a:r>
              <a:rPr b="0" lang="en-US" sz="2000" spc="-1" strike="noStrike">
                <a:solidFill>
                  <a:srgbClr val="0066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66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66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6600"/>
                </a:solidFill>
                <a:latin typeface="Comic Sans MS"/>
              </a:rPr>
              <a:t>indicate positive integers)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omic Sans MS"/>
              </a:rPr>
              <a:t>Negative Integers: Integers that are less than 0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66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66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6600"/>
                </a:solidFill>
                <a:latin typeface="Comic Sans MS"/>
              </a:rPr>
              <a:t>(Words like: loss, decrease, and below indicate a </a:t>
            </a:r>
            <a:r>
              <a:rPr b="0" lang="en-US" sz="2000" spc="-1" strike="noStrike">
                <a:solidFill>
                  <a:srgbClr val="0066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66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66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6600"/>
                </a:solidFill>
                <a:latin typeface="Comic Sans MS"/>
              </a:rPr>
              <a:t>negative integer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66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66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66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66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"/>
          <p:cNvSpPr/>
          <p:nvPr/>
        </p:nvSpPr>
        <p:spPr>
          <a:xfrm>
            <a:off x="3027240" y="3089160"/>
            <a:ext cx="2340000" cy="482760"/>
          </a:xfrm>
          <a:custGeom>
            <a:avLst/>
            <a:gdLst/>
            <a:ahLst/>
            <a:rect l="l" t="t" r="r" b="b"/>
            <a:pathLst>
              <a:path w="6500" h="1341">
                <a:moveTo>
                  <a:pt x="8582" y="9004"/>
                </a:moveTo>
                <a:cubicBezTo>
                  <a:pt x="8582" y="9136"/>
                  <a:pt x="8553" y="9271"/>
                  <a:pt x="8533" y="9401"/>
                </a:cubicBezTo>
                <a:cubicBezTo>
                  <a:pt x="8516" y="9510"/>
                  <a:pt x="8498" y="9599"/>
                  <a:pt x="8458" y="9699"/>
                </a:cubicBezTo>
                <a:cubicBezTo>
                  <a:pt x="8418" y="9575"/>
                  <a:pt x="8388" y="9409"/>
                  <a:pt x="8409" y="9277"/>
                </a:cubicBezTo>
                <a:cubicBezTo>
                  <a:pt x="8441" y="9075"/>
                  <a:pt x="8573" y="8857"/>
                  <a:pt x="8781" y="8806"/>
                </a:cubicBezTo>
                <a:cubicBezTo>
                  <a:pt x="8822" y="8806"/>
                  <a:pt x="8864" y="8806"/>
                  <a:pt x="8905" y="8806"/>
                </a:cubicBezTo>
                <a:cubicBezTo>
                  <a:pt x="8952" y="8996"/>
                  <a:pt x="8961" y="9125"/>
                  <a:pt x="8781" y="9252"/>
                </a:cubicBezTo>
                <a:cubicBezTo>
                  <a:pt x="8687" y="9319"/>
                  <a:pt x="8503" y="9337"/>
                  <a:pt x="8409" y="9252"/>
                </a:cubicBezTo>
                <a:cubicBezTo>
                  <a:pt x="8409" y="9244"/>
                  <a:pt x="8409" y="9235"/>
                  <a:pt x="8409" y="9227"/>
                </a:cubicBezTo>
              </a:path>
              <a:path w="6500" h="1341">
                <a:moveTo>
                  <a:pt x="9153" y="9004"/>
                </a:moveTo>
                <a:cubicBezTo>
                  <a:pt x="9098" y="8963"/>
                  <a:pt x="8985" y="8982"/>
                  <a:pt x="8930" y="9029"/>
                </a:cubicBezTo>
                <a:cubicBezTo>
                  <a:pt x="8821" y="9122"/>
                  <a:pt x="8853" y="9187"/>
                  <a:pt x="8880" y="9302"/>
                </a:cubicBezTo>
                <a:cubicBezTo>
                  <a:pt x="9007" y="9338"/>
                  <a:pt x="9208" y="9322"/>
                  <a:pt x="9277" y="9153"/>
                </a:cubicBezTo>
                <a:cubicBezTo>
                  <a:pt x="9325" y="9037"/>
                  <a:pt x="9207" y="8954"/>
                  <a:pt x="9128" y="8905"/>
                </a:cubicBezTo>
              </a:path>
              <a:path w="6500" h="1341">
                <a:moveTo>
                  <a:pt x="9723" y="8905"/>
                </a:moveTo>
                <a:cubicBezTo>
                  <a:pt x="9590" y="8921"/>
                  <a:pt x="9518" y="8964"/>
                  <a:pt x="9401" y="9029"/>
                </a:cubicBezTo>
                <a:cubicBezTo>
                  <a:pt x="9492" y="9047"/>
                  <a:pt x="9641" y="9030"/>
                  <a:pt x="9723" y="9079"/>
                </a:cubicBezTo>
                <a:cubicBezTo>
                  <a:pt x="9740" y="9104"/>
                  <a:pt x="9756" y="9128"/>
                  <a:pt x="9773" y="9153"/>
                </a:cubicBezTo>
                <a:cubicBezTo>
                  <a:pt x="9676" y="9298"/>
                  <a:pt x="9596" y="9295"/>
                  <a:pt x="9426" y="9302"/>
                </a:cubicBezTo>
                <a:cubicBezTo>
                  <a:pt x="9379" y="9302"/>
                  <a:pt x="9383" y="9284"/>
                  <a:pt x="9451" y="9227"/>
                </a:cubicBezTo>
              </a:path>
              <a:path w="6500" h="1341">
                <a:moveTo>
                  <a:pt x="10319" y="8582"/>
                </a:moveTo>
                <a:cubicBezTo>
                  <a:pt x="10319" y="8759"/>
                  <a:pt x="10272" y="8909"/>
                  <a:pt x="10220" y="9079"/>
                </a:cubicBezTo>
                <a:cubicBezTo>
                  <a:pt x="10161" y="9271"/>
                  <a:pt x="10081" y="9459"/>
                  <a:pt x="10021" y="9649"/>
                </a:cubicBezTo>
                <a:cubicBezTo>
                  <a:pt x="10021" y="9674"/>
                  <a:pt x="10021" y="9682"/>
                  <a:pt x="10021" y="9649"/>
                </a:cubicBezTo>
              </a:path>
              <a:path w="6500" h="1341">
                <a:moveTo>
                  <a:pt x="10666" y="8954"/>
                </a:moveTo>
                <a:cubicBezTo>
                  <a:pt x="10666" y="9061"/>
                  <a:pt x="10657" y="9176"/>
                  <a:pt x="10616" y="9277"/>
                </a:cubicBezTo>
                <a:cubicBezTo>
                  <a:pt x="10608" y="9285"/>
                  <a:pt x="10600" y="9294"/>
                  <a:pt x="10592" y="9302"/>
                </a:cubicBezTo>
                <a:cubicBezTo>
                  <a:pt x="10628" y="9144"/>
                  <a:pt x="10647" y="9029"/>
                  <a:pt x="10790" y="8930"/>
                </a:cubicBezTo>
                <a:cubicBezTo>
                  <a:pt x="10908" y="8848"/>
                  <a:pt x="11032" y="8808"/>
                  <a:pt x="11063" y="8979"/>
                </a:cubicBezTo>
                <a:cubicBezTo>
                  <a:pt x="11068" y="9004"/>
                  <a:pt x="11041" y="9253"/>
                  <a:pt x="11013" y="9252"/>
                </a:cubicBezTo>
                <a:cubicBezTo>
                  <a:pt x="11013" y="9244"/>
                  <a:pt x="11013" y="9235"/>
                  <a:pt x="11013" y="9227"/>
                </a:cubicBezTo>
              </a:path>
              <a:path w="6500" h="1341">
                <a:moveTo>
                  <a:pt x="11311" y="9079"/>
                </a:moveTo>
                <a:cubicBezTo>
                  <a:pt x="11410" y="9056"/>
                  <a:pt x="11521" y="9052"/>
                  <a:pt x="11609" y="9029"/>
                </a:cubicBezTo>
                <a:cubicBezTo>
                  <a:pt x="11633" y="9029"/>
                  <a:pt x="11641" y="9029"/>
                  <a:pt x="11633" y="9004"/>
                </a:cubicBezTo>
                <a:cubicBezTo>
                  <a:pt x="11577" y="8932"/>
                  <a:pt x="11544" y="8865"/>
                  <a:pt x="11435" y="8880"/>
                </a:cubicBezTo>
                <a:cubicBezTo>
                  <a:pt x="11347" y="8892"/>
                  <a:pt x="11253" y="9055"/>
                  <a:pt x="11237" y="9128"/>
                </a:cubicBezTo>
                <a:cubicBezTo>
                  <a:pt x="11237" y="9217"/>
                  <a:pt x="11230" y="9243"/>
                  <a:pt x="11286" y="9277"/>
                </a:cubicBezTo>
                <a:cubicBezTo>
                  <a:pt x="11435" y="9288"/>
                  <a:pt x="11507" y="9242"/>
                  <a:pt x="11658" y="9178"/>
                </a:cubicBezTo>
              </a:path>
              <a:path w="6500" h="1341">
                <a:moveTo>
                  <a:pt x="11981" y="8930"/>
                </a:moveTo>
                <a:cubicBezTo>
                  <a:pt x="11914" y="8897"/>
                  <a:pt x="11785" y="8895"/>
                  <a:pt x="11733" y="8979"/>
                </a:cubicBezTo>
                <a:cubicBezTo>
                  <a:pt x="11710" y="9070"/>
                  <a:pt x="11702" y="9093"/>
                  <a:pt x="11708" y="9153"/>
                </a:cubicBezTo>
                <a:cubicBezTo>
                  <a:pt x="11833" y="9216"/>
                  <a:pt x="11893" y="9230"/>
                  <a:pt x="11981" y="9103"/>
                </a:cubicBezTo>
                <a:cubicBezTo>
                  <a:pt x="12001" y="9063"/>
                  <a:pt x="12009" y="9056"/>
                  <a:pt x="12005" y="9029"/>
                </a:cubicBezTo>
                <a:cubicBezTo>
                  <a:pt x="12005" y="9190"/>
                  <a:pt x="12007" y="9319"/>
                  <a:pt x="11956" y="9475"/>
                </a:cubicBezTo>
                <a:cubicBezTo>
                  <a:pt x="11905" y="9630"/>
                  <a:pt x="11762" y="9963"/>
                  <a:pt x="11534" y="9922"/>
                </a:cubicBezTo>
                <a:cubicBezTo>
                  <a:pt x="11409" y="9846"/>
                  <a:pt x="11367" y="9819"/>
                  <a:pt x="11385" y="9699"/>
                </a:cubicBezTo>
              </a:path>
              <a:path w="6500" h="1341">
                <a:moveTo>
                  <a:pt x="12526" y="8731"/>
                </a:moveTo>
                <a:cubicBezTo>
                  <a:pt x="12605" y="8705"/>
                  <a:pt x="12520" y="8817"/>
                  <a:pt x="12477" y="8905"/>
                </a:cubicBezTo>
                <a:cubicBezTo>
                  <a:pt x="12369" y="9128"/>
                  <a:pt x="12253" y="9427"/>
                  <a:pt x="12105" y="9624"/>
                </a:cubicBezTo>
                <a:cubicBezTo>
                  <a:pt x="12062" y="9624"/>
                  <a:pt x="12060" y="9607"/>
                  <a:pt x="12105" y="9550"/>
                </a:cubicBezTo>
              </a:path>
              <a:path w="6500" h="1341">
                <a:moveTo>
                  <a:pt x="12700" y="9004"/>
                </a:moveTo>
                <a:cubicBezTo>
                  <a:pt x="12818" y="8987"/>
                  <a:pt x="12927" y="8961"/>
                  <a:pt x="13047" y="8954"/>
                </a:cubicBezTo>
                <a:cubicBezTo>
                  <a:pt x="13124" y="8980"/>
                  <a:pt x="12974" y="9062"/>
                  <a:pt x="12948" y="9079"/>
                </a:cubicBezTo>
                <a:cubicBezTo>
                  <a:pt x="12854" y="9141"/>
                  <a:pt x="12762" y="9184"/>
                  <a:pt x="12675" y="9252"/>
                </a:cubicBezTo>
                <a:cubicBezTo>
                  <a:pt x="12795" y="9252"/>
                  <a:pt x="12905" y="9238"/>
                  <a:pt x="13022" y="9227"/>
                </a:cubicBezTo>
                <a:cubicBezTo>
                  <a:pt x="13080" y="9227"/>
                  <a:pt x="13089" y="9227"/>
                  <a:pt x="13122" y="9227"/>
                </a:cubicBezTo>
              </a:path>
              <a:path w="6500" h="1341">
                <a:moveTo>
                  <a:pt x="13320" y="9029"/>
                </a:moveTo>
                <a:cubicBezTo>
                  <a:pt x="13434" y="8983"/>
                  <a:pt x="13548" y="8973"/>
                  <a:pt x="13667" y="8954"/>
                </a:cubicBezTo>
                <a:cubicBezTo>
                  <a:pt x="13675" y="8954"/>
                  <a:pt x="13684" y="8954"/>
                  <a:pt x="13692" y="8954"/>
                </a:cubicBezTo>
                <a:cubicBezTo>
                  <a:pt x="13640" y="8920"/>
                  <a:pt x="13556" y="8847"/>
                  <a:pt x="13494" y="8855"/>
                </a:cubicBezTo>
                <a:cubicBezTo>
                  <a:pt x="13405" y="8867"/>
                  <a:pt x="13278" y="9036"/>
                  <a:pt x="13295" y="9128"/>
                </a:cubicBezTo>
                <a:cubicBezTo>
                  <a:pt x="13312" y="9153"/>
                  <a:pt x="13328" y="9178"/>
                  <a:pt x="13345" y="9203"/>
                </a:cubicBezTo>
                <a:cubicBezTo>
                  <a:pt x="13528" y="9223"/>
                  <a:pt x="13688" y="9220"/>
                  <a:pt x="13841" y="9103"/>
                </a:cubicBezTo>
                <a:cubicBezTo>
                  <a:pt x="13866" y="9078"/>
                  <a:pt x="13890" y="9054"/>
                  <a:pt x="13915" y="9029"/>
                </a:cubicBezTo>
              </a:path>
              <a:path w="6500" h="1341">
                <a:moveTo>
                  <a:pt x="13940" y="8979"/>
                </a:moveTo>
                <a:cubicBezTo>
                  <a:pt x="13940" y="9055"/>
                  <a:pt x="13934" y="9116"/>
                  <a:pt x="13965" y="9178"/>
                </a:cubicBezTo>
                <a:cubicBezTo>
                  <a:pt x="14020" y="9024"/>
                  <a:pt x="14073" y="8945"/>
                  <a:pt x="14188" y="8830"/>
                </a:cubicBezTo>
                <a:cubicBezTo>
                  <a:pt x="14246" y="8774"/>
                  <a:pt x="14273" y="8755"/>
                  <a:pt x="14337" y="8756"/>
                </a:cubicBezTo>
              </a:path>
              <a:path w="6500" h="1341">
                <a:moveTo>
                  <a:pt x="14660" y="8781"/>
                </a:moveTo>
                <a:cubicBezTo>
                  <a:pt x="14537" y="8854"/>
                  <a:pt x="14393" y="8959"/>
                  <a:pt x="14412" y="9128"/>
                </a:cubicBezTo>
                <a:cubicBezTo>
                  <a:pt x="14435" y="9336"/>
                  <a:pt x="14722" y="9230"/>
                  <a:pt x="14808" y="9153"/>
                </a:cubicBezTo>
                <a:cubicBezTo>
                  <a:pt x="15009" y="8972"/>
                  <a:pt x="14866" y="8897"/>
                  <a:pt x="14709" y="8806"/>
                </a:cubicBezTo>
                <a:cubicBezTo>
                  <a:pt x="14684" y="8789"/>
                  <a:pt x="14660" y="8773"/>
                  <a:pt x="14635" y="875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813200" y="1465200"/>
            <a:ext cx="180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13370" y="4068"/>
                </a:moveTo>
                <a:lnTo>
                  <a:pt x="13370" y="4068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010040" y="1482840"/>
            <a:ext cx="1204920" cy="392040"/>
          </a:xfrm>
          <a:custGeom>
            <a:avLst/>
            <a:gdLst/>
            <a:ahLst/>
            <a:rect l="l" t="t" r="r" b="b"/>
            <a:pathLst>
              <a:path w="3350" h="1092">
                <a:moveTo>
                  <a:pt x="11137" y="4539"/>
                </a:moveTo>
                <a:cubicBezTo>
                  <a:pt x="11152" y="4631"/>
                  <a:pt x="11191" y="4720"/>
                  <a:pt x="11212" y="4812"/>
                </a:cubicBezTo>
                <a:cubicBezTo>
                  <a:pt x="11212" y="4820"/>
                  <a:pt x="11212" y="4829"/>
                  <a:pt x="11212" y="4837"/>
                </a:cubicBezTo>
                <a:cubicBezTo>
                  <a:pt x="11193" y="4763"/>
                  <a:pt x="11157" y="4648"/>
                  <a:pt x="11162" y="4564"/>
                </a:cubicBezTo>
                <a:cubicBezTo>
                  <a:pt x="11167" y="4467"/>
                  <a:pt x="11225" y="4351"/>
                  <a:pt x="11336" y="4366"/>
                </a:cubicBezTo>
                <a:cubicBezTo>
                  <a:pt x="11517" y="4391"/>
                  <a:pt x="11542" y="4535"/>
                  <a:pt x="11584" y="4688"/>
                </a:cubicBezTo>
                <a:cubicBezTo>
                  <a:pt x="11603" y="4762"/>
                  <a:pt x="11611" y="4769"/>
                  <a:pt x="11609" y="4812"/>
                </a:cubicBezTo>
              </a:path>
              <a:path w="3350" h="1092">
                <a:moveTo>
                  <a:pt x="11683" y="4564"/>
                </a:moveTo>
                <a:cubicBezTo>
                  <a:pt x="11729" y="4546"/>
                  <a:pt x="11812" y="4515"/>
                  <a:pt x="11857" y="4490"/>
                </a:cubicBezTo>
                <a:cubicBezTo>
                  <a:pt x="11865" y="4482"/>
                  <a:pt x="11873" y="4473"/>
                  <a:pt x="11881" y="4465"/>
                </a:cubicBezTo>
                <a:cubicBezTo>
                  <a:pt x="11820" y="4440"/>
                  <a:pt x="11745" y="4400"/>
                  <a:pt x="11683" y="4366"/>
                </a:cubicBezTo>
                <a:cubicBezTo>
                  <a:pt x="11611" y="4473"/>
                  <a:pt x="11632" y="4563"/>
                  <a:pt x="11658" y="4688"/>
                </a:cubicBezTo>
                <a:cubicBezTo>
                  <a:pt x="11692" y="4850"/>
                  <a:pt x="11788" y="4884"/>
                  <a:pt x="11931" y="4787"/>
                </a:cubicBezTo>
                <a:cubicBezTo>
                  <a:pt x="11956" y="4762"/>
                  <a:pt x="11980" y="4738"/>
                  <a:pt x="12005" y="4713"/>
                </a:cubicBezTo>
              </a:path>
              <a:path w="3350" h="1092">
                <a:moveTo>
                  <a:pt x="12303" y="4415"/>
                </a:moveTo>
                <a:cubicBezTo>
                  <a:pt x="12240" y="4373"/>
                  <a:pt x="12147" y="4337"/>
                  <a:pt x="12105" y="4440"/>
                </a:cubicBezTo>
                <a:cubicBezTo>
                  <a:pt x="12064" y="4540"/>
                  <a:pt x="12077" y="4620"/>
                  <a:pt x="12105" y="4713"/>
                </a:cubicBezTo>
                <a:cubicBezTo>
                  <a:pt x="12249" y="4700"/>
                  <a:pt x="12244" y="4670"/>
                  <a:pt x="12278" y="4539"/>
                </a:cubicBezTo>
                <a:cubicBezTo>
                  <a:pt x="12286" y="4514"/>
                  <a:pt x="12295" y="4490"/>
                  <a:pt x="12303" y="4465"/>
                </a:cubicBezTo>
                <a:cubicBezTo>
                  <a:pt x="12350" y="4604"/>
                  <a:pt x="12466" y="4726"/>
                  <a:pt x="12477" y="4887"/>
                </a:cubicBezTo>
                <a:cubicBezTo>
                  <a:pt x="12491" y="5084"/>
                  <a:pt x="12369" y="5220"/>
                  <a:pt x="12179" y="5209"/>
                </a:cubicBezTo>
                <a:cubicBezTo>
                  <a:pt x="12097" y="5181"/>
                  <a:pt x="12071" y="5165"/>
                  <a:pt x="12080" y="5085"/>
                </a:cubicBezTo>
              </a:path>
              <a:path w="3350" h="1092">
                <a:moveTo>
                  <a:pt x="12799" y="4415"/>
                </a:moveTo>
                <a:cubicBezTo>
                  <a:pt x="12807" y="4423"/>
                  <a:pt x="12816" y="4432"/>
                  <a:pt x="12824" y="4440"/>
                </a:cubicBezTo>
                <a:cubicBezTo>
                  <a:pt x="12813" y="4426"/>
                  <a:pt x="12713" y="4302"/>
                  <a:pt x="12700" y="4316"/>
                </a:cubicBezTo>
                <a:cubicBezTo>
                  <a:pt x="12606" y="4416"/>
                  <a:pt x="12609" y="4596"/>
                  <a:pt x="12626" y="4713"/>
                </a:cubicBezTo>
                <a:cubicBezTo>
                  <a:pt x="12742" y="4649"/>
                  <a:pt x="12765" y="4605"/>
                  <a:pt x="12774" y="4465"/>
                </a:cubicBezTo>
                <a:cubicBezTo>
                  <a:pt x="12774" y="4457"/>
                  <a:pt x="12774" y="4448"/>
                  <a:pt x="12774" y="4440"/>
                </a:cubicBezTo>
                <a:cubicBezTo>
                  <a:pt x="12784" y="4518"/>
                  <a:pt x="12826" y="4668"/>
                  <a:pt x="12898" y="4713"/>
                </a:cubicBezTo>
                <a:cubicBezTo>
                  <a:pt x="12933" y="4678"/>
                  <a:pt x="12946" y="4656"/>
                  <a:pt x="12948" y="4614"/>
                </a:cubicBezTo>
              </a:path>
              <a:path w="3350" h="1092">
                <a:moveTo>
                  <a:pt x="12973" y="4118"/>
                </a:moveTo>
                <a:cubicBezTo>
                  <a:pt x="13046" y="4262"/>
                  <a:pt x="13100" y="4409"/>
                  <a:pt x="13146" y="4564"/>
                </a:cubicBezTo>
                <a:cubicBezTo>
                  <a:pt x="13167" y="4648"/>
                  <a:pt x="13169" y="4667"/>
                  <a:pt x="13196" y="4713"/>
                </a:cubicBezTo>
              </a:path>
              <a:path w="3350" h="1092">
                <a:moveTo>
                  <a:pt x="13320" y="4291"/>
                </a:moveTo>
                <a:cubicBezTo>
                  <a:pt x="13379" y="4370"/>
                  <a:pt x="13393" y="4490"/>
                  <a:pt x="13419" y="4589"/>
                </a:cubicBezTo>
                <a:cubicBezTo>
                  <a:pt x="13438" y="4663"/>
                  <a:pt x="13446" y="4670"/>
                  <a:pt x="13444" y="4713"/>
                </a:cubicBezTo>
              </a:path>
              <a:path w="3350" h="1092">
                <a:moveTo>
                  <a:pt x="12948" y="4415"/>
                </a:moveTo>
                <a:cubicBezTo>
                  <a:pt x="13024" y="4402"/>
                  <a:pt x="13098" y="4353"/>
                  <a:pt x="13171" y="4341"/>
                </a:cubicBezTo>
                <a:cubicBezTo>
                  <a:pt x="13239" y="4341"/>
                  <a:pt x="13258" y="4344"/>
                  <a:pt x="13295" y="4316"/>
                </a:cubicBezTo>
              </a:path>
              <a:path w="3350" h="1092">
                <a:moveTo>
                  <a:pt x="13568" y="4341"/>
                </a:moveTo>
                <a:cubicBezTo>
                  <a:pt x="13635" y="4397"/>
                  <a:pt x="13744" y="4543"/>
                  <a:pt x="13791" y="4638"/>
                </a:cubicBezTo>
                <a:cubicBezTo>
                  <a:pt x="13791" y="4646"/>
                  <a:pt x="13791" y="4655"/>
                  <a:pt x="13791" y="4663"/>
                </a:cubicBezTo>
                <a:cubicBezTo>
                  <a:pt x="13791" y="4571"/>
                  <a:pt x="13802" y="4500"/>
                  <a:pt x="13841" y="4415"/>
                </a:cubicBezTo>
                <a:cubicBezTo>
                  <a:pt x="13866" y="4366"/>
                  <a:pt x="13874" y="4350"/>
                  <a:pt x="13915" y="4341"/>
                </a:cubicBezTo>
              </a:path>
              <a:path w="3350" h="1092">
                <a:moveTo>
                  <a:pt x="14089" y="4440"/>
                </a:moveTo>
                <a:cubicBezTo>
                  <a:pt x="14171" y="4457"/>
                  <a:pt x="14223" y="4445"/>
                  <a:pt x="14312" y="4440"/>
                </a:cubicBezTo>
                <a:cubicBezTo>
                  <a:pt x="14320" y="4440"/>
                  <a:pt x="14329" y="4440"/>
                  <a:pt x="14337" y="4440"/>
                </a:cubicBezTo>
                <a:cubicBezTo>
                  <a:pt x="14300" y="4374"/>
                  <a:pt x="14263" y="4323"/>
                  <a:pt x="14213" y="4266"/>
                </a:cubicBezTo>
                <a:cubicBezTo>
                  <a:pt x="14108" y="4287"/>
                  <a:pt x="14051" y="4435"/>
                  <a:pt x="14064" y="4539"/>
                </a:cubicBezTo>
                <a:cubicBezTo>
                  <a:pt x="14089" y="4738"/>
                  <a:pt x="14303" y="4651"/>
                  <a:pt x="14412" y="4614"/>
                </a:cubicBezTo>
                <a:cubicBezTo>
                  <a:pt x="14469" y="4595"/>
                  <a:pt x="14494" y="4604"/>
                  <a:pt x="14486" y="456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367080" y="1884240"/>
            <a:ext cx="5062680" cy="544680"/>
          </a:xfrm>
          <a:custGeom>
            <a:avLst/>
            <a:gdLst/>
            <a:ahLst/>
            <a:rect l="l" t="t" r="r" b="b"/>
            <a:pathLst>
              <a:path w="14066" h="1514">
                <a:moveTo>
                  <a:pt x="9426" y="5581"/>
                </a:moveTo>
                <a:cubicBezTo>
                  <a:pt x="9660" y="5576"/>
                  <a:pt x="9888" y="5538"/>
                  <a:pt x="10120" y="5531"/>
                </a:cubicBezTo>
                <a:cubicBezTo>
                  <a:pt x="10500" y="5519"/>
                  <a:pt x="10885" y="5538"/>
                  <a:pt x="11261" y="5581"/>
                </a:cubicBezTo>
                <a:cubicBezTo>
                  <a:pt x="11485" y="5607"/>
                  <a:pt x="11706" y="5646"/>
                  <a:pt x="11931" y="5655"/>
                </a:cubicBezTo>
                <a:cubicBezTo>
                  <a:pt x="12169" y="5664"/>
                  <a:pt x="12412" y="5684"/>
                  <a:pt x="12650" y="5680"/>
                </a:cubicBezTo>
                <a:cubicBezTo>
                  <a:pt x="12891" y="5676"/>
                  <a:pt x="13128" y="5657"/>
                  <a:pt x="13370" y="5655"/>
                </a:cubicBezTo>
                <a:cubicBezTo>
                  <a:pt x="13644" y="5653"/>
                  <a:pt x="13915" y="5646"/>
                  <a:pt x="14188" y="5631"/>
                </a:cubicBezTo>
                <a:cubicBezTo>
                  <a:pt x="14560" y="5610"/>
                  <a:pt x="14932" y="5599"/>
                  <a:pt x="15304" y="5581"/>
                </a:cubicBezTo>
                <a:cubicBezTo>
                  <a:pt x="15577" y="5568"/>
                  <a:pt x="15850" y="5569"/>
                  <a:pt x="16123" y="5556"/>
                </a:cubicBezTo>
                <a:cubicBezTo>
                  <a:pt x="16490" y="5539"/>
                  <a:pt x="16848" y="5547"/>
                  <a:pt x="17214" y="5556"/>
                </a:cubicBezTo>
                <a:cubicBezTo>
                  <a:pt x="17455" y="5562"/>
                  <a:pt x="17694" y="5567"/>
                  <a:pt x="17934" y="5581"/>
                </a:cubicBezTo>
                <a:cubicBezTo>
                  <a:pt x="18190" y="5596"/>
                  <a:pt x="18447" y="5615"/>
                  <a:pt x="18703" y="5631"/>
                </a:cubicBezTo>
                <a:cubicBezTo>
                  <a:pt x="19058" y="5653"/>
                  <a:pt x="19414" y="5635"/>
                  <a:pt x="19769" y="5655"/>
                </a:cubicBezTo>
                <a:cubicBezTo>
                  <a:pt x="20257" y="5683"/>
                  <a:pt x="20747" y="5692"/>
                  <a:pt x="21233" y="5680"/>
                </a:cubicBezTo>
                <a:cubicBezTo>
                  <a:pt x="21532" y="5673"/>
                  <a:pt x="21827" y="5657"/>
                  <a:pt x="22126" y="5655"/>
                </a:cubicBezTo>
                <a:cubicBezTo>
                  <a:pt x="22449" y="5652"/>
                  <a:pt x="22774" y="5642"/>
                  <a:pt x="23093" y="5631"/>
                </a:cubicBezTo>
                <a:cubicBezTo>
                  <a:pt x="23168" y="5629"/>
                  <a:pt x="23311" y="5664"/>
                  <a:pt x="23292" y="5606"/>
                </a:cubicBezTo>
                <a:cubicBezTo>
                  <a:pt x="23283" y="5578"/>
                  <a:pt x="23100" y="5489"/>
                  <a:pt x="23068" y="5457"/>
                </a:cubicBezTo>
                <a:cubicBezTo>
                  <a:pt x="23137" y="5486"/>
                  <a:pt x="23151" y="5472"/>
                  <a:pt x="23217" y="5507"/>
                </a:cubicBezTo>
                <a:cubicBezTo>
                  <a:pt x="23284" y="5543"/>
                  <a:pt x="23309" y="5568"/>
                  <a:pt x="23366" y="5606"/>
                </a:cubicBezTo>
                <a:cubicBezTo>
                  <a:pt x="23406" y="5626"/>
                  <a:pt x="23423" y="5624"/>
                  <a:pt x="23416" y="5655"/>
                </a:cubicBezTo>
                <a:cubicBezTo>
                  <a:pt x="23319" y="5749"/>
                  <a:pt x="23215" y="5840"/>
                  <a:pt x="23118" y="5928"/>
                </a:cubicBezTo>
              </a:path>
              <a:path w="14066" h="1514">
                <a:moveTo>
                  <a:pt x="9773" y="5308"/>
                </a:moveTo>
                <a:cubicBezTo>
                  <a:pt x="9752" y="5372"/>
                  <a:pt x="9613" y="5437"/>
                  <a:pt x="9550" y="5482"/>
                </a:cubicBezTo>
                <a:cubicBezTo>
                  <a:pt x="9480" y="5532"/>
                  <a:pt x="9418" y="5562"/>
                  <a:pt x="9351" y="5606"/>
                </a:cubicBezTo>
                <a:cubicBezTo>
                  <a:pt x="9461" y="5642"/>
                  <a:pt x="9553" y="5735"/>
                  <a:pt x="9649" y="5804"/>
                </a:cubicBezTo>
                <a:cubicBezTo>
                  <a:pt x="9669" y="5818"/>
                  <a:pt x="9764" y="5900"/>
                  <a:pt x="9773" y="5904"/>
                </a:cubicBezTo>
                <a:cubicBezTo>
                  <a:pt x="9781" y="5904"/>
                  <a:pt x="9790" y="5904"/>
                  <a:pt x="9798" y="5904"/>
                </a:cubicBezTo>
              </a:path>
              <a:path w="14066" h="1514">
                <a:moveTo>
                  <a:pt x="16197" y="5457"/>
                </a:moveTo>
                <a:cubicBezTo>
                  <a:pt x="16224" y="5448"/>
                  <a:pt x="16243" y="5439"/>
                  <a:pt x="16247" y="5407"/>
                </a:cubicBezTo>
                <a:cubicBezTo>
                  <a:pt x="16253" y="5364"/>
                  <a:pt x="16272" y="5240"/>
                  <a:pt x="16272" y="5283"/>
                </a:cubicBezTo>
                <a:cubicBezTo>
                  <a:pt x="16272" y="5441"/>
                  <a:pt x="16301" y="5600"/>
                  <a:pt x="16321" y="5755"/>
                </a:cubicBezTo>
                <a:cubicBezTo>
                  <a:pt x="16321" y="5789"/>
                  <a:pt x="16317" y="5788"/>
                  <a:pt x="16297" y="5730"/>
                </a:cubicBezTo>
                <a:cubicBezTo>
                  <a:pt x="16297" y="5569"/>
                  <a:pt x="16280" y="5418"/>
                  <a:pt x="16272" y="5259"/>
                </a:cubicBezTo>
                <a:cubicBezTo>
                  <a:pt x="16268" y="5180"/>
                  <a:pt x="16321" y="5529"/>
                  <a:pt x="16321" y="5531"/>
                </a:cubicBezTo>
              </a:path>
              <a:path w="14066" h="1514">
                <a:moveTo>
                  <a:pt x="16446" y="6400"/>
                </a:moveTo>
                <a:cubicBezTo>
                  <a:pt x="16414" y="6376"/>
                  <a:pt x="16403" y="6374"/>
                  <a:pt x="16371" y="6350"/>
                </a:cubicBezTo>
                <a:cubicBezTo>
                  <a:pt x="16277" y="6454"/>
                  <a:pt x="16202" y="6555"/>
                  <a:pt x="16173" y="6697"/>
                </a:cubicBezTo>
                <a:cubicBezTo>
                  <a:pt x="16173" y="6714"/>
                  <a:pt x="16173" y="6730"/>
                  <a:pt x="16173" y="6747"/>
                </a:cubicBezTo>
                <a:cubicBezTo>
                  <a:pt x="16305" y="6737"/>
                  <a:pt x="16411" y="6715"/>
                  <a:pt x="16495" y="6598"/>
                </a:cubicBezTo>
                <a:cubicBezTo>
                  <a:pt x="16572" y="6490"/>
                  <a:pt x="16554" y="6433"/>
                  <a:pt x="16446" y="6375"/>
                </a:cubicBezTo>
                <a:cubicBezTo>
                  <a:pt x="16438" y="6375"/>
                  <a:pt x="16429" y="6375"/>
                  <a:pt x="16421" y="637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46040" y="3929040"/>
            <a:ext cx="6599160" cy="1179360"/>
          </a:xfrm>
          <a:custGeom>
            <a:avLst/>
            <a:gdLst/>
            <a:ahLst/>
            <a:rect l="l" t="t" r="r" b="b"/>
            <a:pathLst>
              <a:path w="18332" h="3275">
                <a:moveTo>
                  <a:pt x="1240" y="11088"/>
                </a:moveTo>
                <a:cubicBezTo>
                  <a:pt x="1300" y="11078"/>
                  <a:pt x="1356" y="11076"/>
                  <a:pt x="1414" y="11063"/>
                </a:cubicBezTo>
                <a:cubicBezTo>
                  <a:pt x="1474" y="11049"/>
                  <a:pt x="1526" y="11043"/>
                  <a:pt x="1588" y="11038"/>
                </a:cubicBezTo>
                <a:cubicBezTo>
                  <a:pt x="1650" y="11033"/>
                  <a:pt x="1703" y="11017"/>
                  <a:pt x="1761" y="11013"/>
                </a:cubicBezTo>
                <a:cubicBezTo>
                  <a:pt x="1802" y="11010"/>
                  <a:pt x="1856" y="10991"/>
                  <a:pt x="1885" y="10988"/>
                </a:cubicBezTo>
                <a:cubicBezTo>
                  <a:pt x="1950" y="10982"/>
                  <a:pt x="2031" y="10969"/>
                  <a:pt x="2084" y="10964"/>
                </a:cubicBezTo>
                <a:cubicBezTo>
                  <a:pt x="2187" y="10954"/>
                  <a:pt x="2281" y="10957"/>
                  <a:pt x="2381" y="10939"/>
                </a:cubicBezTo>
                <a:cubicBezTo>
                  <a:pt x="2424" y="10931"/>
                  <a:pt x="2448" y="10916"/>
                  <a:pt x="2505" y="10914"/>
                </a:cubicBezTo>
                <a:cubicBezTo>
                  <a:pt x="2572" y="10912"/>
                  <a:pt x="2618" y="10935"/>
                  <a:pt x="2679" y="10939"/>
                </a:cubicBezTo>
                <a:cubicBezTo>
                  <a:pt x="2826" y="10949"/>
                  <a:pt x="2993" y="10953"/>
                  <a:pt x="3125" y="10964"/>
                </a:cubicBezTo>
                <a:cubicBezTo>
                  <a:pt x="3459" y="10992"/>
                  <a:pt x="3811" y="10988"/>
                  <a:pt x="4142" y="10988"/>
                </a:cubicBezTo>
                <a:cubicBezTo>
                  <a:pt x="4336" y="10988"/>
                  <a:pt x="4521" y="11009"/>
                  <a:pt x="4713" y="11013"/>
                </a:cubicBezTo>
                <a:cubicBezTo>
                  <a:pt x="5230" y="11024"/>
                  <a:pt x="5769" y="11031"/>
                  <a:pt x="6276" y="10988"/>
                </a:cubicBezTo>
                <a:cubicBezTo>
                  <a:pt x="6398" y="10978"/>
                  <a:pt x="6529" y="10972"/>
                  <a:pt x="6648" y="10964"/>
                </a:cubicBezTo>
                <a:cubicBezTo>
                  <a:pt x="6734" y="10959"/>
                  <a:pt x="6812" y="10945"/>
                  <a:pt x="6896" y="10939"/>
                </a:cubicBezTo>
                <a:cubicBezTo>
                  <a:pt x="6958" y="10934"/>
                  <a:pt x="7013" y="10920"/>
                  <a:pt x="7069" y="10914"/>
                </a:cubicBezTo>
                <a:cubicBezTo>
                  <a:pt x="7094" y="10914"/>
                  <a:pt x="7102" y="10914"/>
                  <a:pt x="7119" y="10914"/>
                </a:cubicBezTo>
              </a:path>
              <a:path w="18332" h="3275">
                <a:moveTo>
                  <a:pt x="9376" y="11782"/>
                </a:moveTo>
                <a:cubicBezTo>
                  <a:pt x="9439" y="11790"/>
                  <a:pt x="9408" y="11805"/>
                  <a:pt x="9475" y="11807"/>
                </a:cubicBezTo>
                <a:cubicBezTo>
                  <a:pt x="9575" y="11811"/>
                  <a:pt x="9653" y="11793"/>
                  <a:pt x="9748" y="11782"/>
                </a:cubicBezTo>
                <a:cubicBezTo>
                  <a:pt x="9910" y="11763"/>
                  <a:pt x="10091" y="11783"/>
                  <a:pt x="10244" y="11807"/>
                </a:cubicBezTo>
                <a:cubicBezTo>
                  <a:pt x="10313" y="11818"/>
                  <a:pt x="10349" y="11785"/>
                  <a:pt x="10418" y="11782"/>
                </a:cubicBezTo>
                <a:cubicBezTo>
                  <a:pt x="10530" y="11776"/>
                  <a:pt x="10631" y="11772"/>
                  <a:pt x="10740" y="11757"/>
                </a:cubicBezTo>
                <a:cubicBezTo>
                  <a:pt x="10816" y="11747"/>
                  <a:pt x="10888" y="11737"/>
                  <a:pt x="10964" y="11733"/>
                </a:cubicBezTo>
                <a:cubicBezTo>
                  <a:pt x="11071" y="11728"/>
                  <a:pt x="11179" y="11733"/>
                  <a:pt x="11286" y="11733"/>
                </a:cubicBezTo>
              </a:path>
              <a:path w="18332" h="3275">
                <a:moveTo>
                  <a:pt x="11559" y="11832"/>
                </a:moveTo>
                <a:cubicBezTo>
                  <a:pt x="11617" y="11832"/>
                  <a:pt x="11664" y="11850"/>
                  <a:pt x="11708" y="11857"/>
                </a:cubicBezTo>
                <a:cubicBezTo>
                  <a:pt x="11754" y="11865"/>
                  <a:pt x="11788" y="11838"/>
                  <a:pt x="11832" y="11832"/>
                </a:cubicBezTo>
                <a:cubicBezTo>
                  <a:pt x="11984" y="11810"/>
                  <a:pt x="12162" y="11825"/>
                  <a:pt x="12303" y="11807"/>
                </a:cubicBezTo>
                <a:cubicBezTo>
                  <a:pt x="12912" y="11727"/>
                  <a:pt x="13558" y="11858"/>
                  <a:pt x="14163" y="11782"/>
                </a:cubicBezTo>
                <a:cubicBezTo>
                  <a:pt x="14211" y="11776"/>
                  <a:pt x="14263" y="11782"/>
                  <a:pt x="14312" y="11782"/>
                </a:cubicBezTo>
              </a:path>
              <a:path w="18332" h="3275">
                <a:moveTo>
                  <a:pt x="14759" y="11832"/>
                </a:moveTo>
                <a:cubicBezTo>
                  <a:pt x="14834" y="11832"/>
                  <a:pt x="14887" y="11845"/>
                  <a:pt x="14957" y="11857"/>
                </a:cubicBezTo>
                <a:cubicBezTo>
                  <a:pt x="15159" y="11893"/>
                  <a:pt x="15388" y="11820"/>
                  <a:pt x="15577" y="11881"/>
                </a:cubicBezTo>
                <a:cubicBezTo>
                  <a:pt x="15649" y="11904"/>
                  <a:pt x="15752" y="11890"/>
                  <a:pt x="15825" y="11906"/>
                </a:cubicBezTo>
                <a:cubicBezTo>
                  <a:pt x="15871" y="11916"/>
                  <a:pt x="15885" y="11886"/>
                  <a:pt x="15925" y="11881"/>
                </a:cubicBezTo>
                <a:cubicBezTo>
                  <a:pt x="15980" y="11875"/>
                  <a:pt x="16032" y="11875"/>
                  <a:pt x="16073" y="11906"/>
                </a:cubicBezTo>
              </a:path>
              <a:path w="18332" h="3275">
                <a:moveTo>
                  <a:pt x="17884" y="11832"/>
                </a:moveTo>
                <a:cubicBezTo>
                  <a:pt x="17884" y="11807"/>
                  <a:pt x="17884" y="11799"/>
                  <a:pt x="17859" y="11807"/>
                </a:cubicBezTo>
                <a:cubicBezTo>
                  <a:pt x="17959" y="11800"/>
                  <a:pt x="18058" y="11796"/>
                  <a:pt x="18157" y="11782"/>
                </a:cubicBezTo>
                <a:cubicBezTo>
                  <a:pt x="18363" y="11753"/>
                  <a:pt x="18571" y="11760"/>
                  <a:pt x="18777" y="11733"/>
                </a:cubicBezTo>
                <a:cubicBezTo>
                  <a:pt x="18902" y="11716"/>
                  <a:pt x="19026" y="11672"/>
                  <a:pt x="19149" y="11658"/>
                </a:cubicBezTo>
                <a:cubicBezTo>
                  <a:pt x="19226" y="11649"/>
                  <a:pt x="19298" y="11643"/>
                  <a:pt x="19372" y="11633"/>
                </a:cubicBezTo>
                <a:cubicBezTo>
                  <a:pt x="19436" y="11624"/>
                  <a:pt x="19506" y="11633"/>
                  <a:pt x="19571" y="11633"/>
                </a:cubicBezTo>
              </a:path>
              <a:path w="18332" h="3275">
                <a:moveTo>
                  <a:pt x="1612" y="14163"/>
                </a:moveTo>
                <a:cubicBezTo>
                  <a:pt x="1653" y="14168"/>
                  <a:pt x="1665" y="14191"/>
                  <a:pt x="1712" y="14188"/>
                </a:cubicBezTo>
                <a:cubicBezTo>
                  <a:pt x="1775" y="14184"/>
                  <a:pt x="1833" y="14147"/>
                  <a:pt x="1885" y="14139"/>
                </a:cubicBezTo>
                <a:cubicBezTo>
                  <a:pt x="1950" y="14129"/>
                  <a:pt x="1978" y="14135"/>
                  <a:pt x="2034" y="14114"/>
                </a:cubicBezTo>
                <a:cubicBezTo>
                  <a:pt x="2084" y="14095"/>
                  <a:pt x="2131" y="14082"/>
                  <a:pt x="2183" y="14064"/>
                </a:cubicBezTo>
                <a:cubicBezTo>
                  <a:pt x="2229" y="14048"/>
                  <a:pt x="2277" y="14022"/>
                  <a:pt x="2332" y="14015"/>
                </a:cubicBezTo>
                <a:cubicBezTo>
                  <a:pt x="2465" y="13998"/>
                  <a:pt x="2633" y="13999"/>
                  <a:pt x="2753" y="13990"/>
                </a:cubicBezTo>
                <a:cubicBezTo>
                  <a:pt x="2834" y="13984"/>
                  <a:pt x="2961" y="14011"/>
                  <a:pt x="3001" y="14015"/>
                </a:cubicBezTo>
                <a:cubicBezTo>
                  <a:pt x="3148" y="14028"/>
                  <a:pt x="3307" y="14028"/>
                  <a:pt x="3448" y="14039"/>
                </a:cubicBezTo>
                <a:cubicBezTo>
                  <a:pt x="3511" y="14044"/>
                  <a:pt x="3562" y="14058"/>
                  <a:pt x="3621" y="14064"/>
                </a:cubicBezTo>
                <a:cubicBezTo>
                  <a:pt x="3697" y="14072"/>
                  <a:pt x="3749" y="14035"/>
                  <a:pt x="3820" y="14039"/>
                </a:cubicBezTo>
                <a:cubicBezTo>
                  <a:pt x="3881" y="14042"/>
                  <a:pt x="3911" y="14062"/>
                  <a:pt x="3969" y="14064"/>
                </a:cubicBezTo>
                <a:cubicBezTo>
                  <a:pt x="4036" y="14067"/>
                  <a:pt x="4107" y="14085"/>
                  <a:pt x="4167" y="14089"/>
                </a:cubicBezTo>
                <a:cubicBezTo>
                  <a:pt x="4242" y="14094"/>
                  <a:pt x="4321" y="14108"/>
                  <a:pt x="4390" y="14114"/>
                </a:cubicBezTo>
                <a:cubicBezTo>
                  <a:pt x="4441" y="14118"/>
                  <a:pt x="4501" y="14135"/>
                  <a:pt x="4539" y="14139"/>
                </a:cubicBezTo>
                <a:cubicBezTo>
                  <a:pt x="4600" y="14145"/>
                  <a:pt x="4655" y="14157"/>
                  <a:pt x="4713" y="14163"/>
                </a:cubicBezTo>
                <a:cubicBezTo>
                  <a:pt x="4848" y="14178"/>
                  <a:pt x="4979" y="14148"/>
                  <a:pt x="5110" y="14139"/>
                </a:cubicBezTo>
                <a:cubicBezTo>
                  <a:pt x="5193" y="14133"/>
                  <a:pt x="5288" y="14121"/>
                  <a:pt x="5358" y="14114"/>
                </a:cubicBezTo>
                <a:cubicBezTo>
                  <a:pt x="5403" y="14110"/>
                  <a:pt x="5447" y="14119"/>
                  <a:pt x="5507" y="14114"/>
                </a:cubicBezTo>
                <a:cubicBezTo>
                  <a:pt x="5636" y="14103"/>
                  <a:pt x="5759" y="14129"/>
                  <a:pt x="5879" y="14139"/>
                </a:cubicBezTo>
                <a:cubicBezTo>
                  <a:pt x="5976" y="14147"/>
                  <a:pt x="6085" y="14156"/>
                  <a:pt x="6176" y="14163"/>
                </a:cubicBezTo>
                <a:cubicBezTo>
                  <a:pt x="6339" y="14175"/>
                  <a:pt x="6516" y="14179"/>
                  <a:pt x="6672" y="14188"/>
                </a:cubicBezTo>
                <a:cubicBezTo>
                  <a:pt x="6775" y="14194"/>
                  <a:pt x="6933" y="14169"/>
                  <a:pt x="6995" y="14163"/>
                </a:cubicBezTo>
                <a:cubicBezTo>
                  <a:pt x="7081" y="14155"/>
                  <a:pt x="7111" y="14163"/>
                  <a:pt x="7193" y="1418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786720" y="1482840"/>
            <a:ext cx="250560" cy="27000"/>
          </a:xfrm>
          <a:custGeom>
            <a:avLst/>
            <a:gdLst/>
            <a:ahLst/>
            <a:rect l="l" t="t" r="r" b="b"/>
            <a:pathLst>
              <a:path w="695" h="75">
                <a:moveTo>
                  <a:pt x="18852" y="4192"/>
                </a:moveTo>
                <a:cubicBezTo>
                  <a:pt x="18860" y="4175"/>
                  <a:pt x="18868" y="4159"/>
                  <a:pt x="18876" y="4142"/>
                </a:cubicBezTo>
              </a:path>
              <a:path w="695" h="75">
                <a:moveTo>
                  <a:pt x="18876" y="4142"/>
                </a:moveTo>
                <a:lnTo>
                  <a:pt x="18876" y="4142"/>
                </a:lnTo>
              </a:path>
              <a:path w="695" h="75">
                <a:moveTo>
                  <a:pt x="19521" y="4118"/>
                </a:moveTo>
                <a:cubicBezTo>
                  <a:pt x="19546" y="4118"/>
                  <a:pt x="19554" y="4118"/>
                  <a:pt x="19546" y="4142"/>
                </a:cubicBezTo>
              </a:path>
              <a:path w="695" h="75">
                <a:moveTo>
                  <a:pt x="19546" y="4142"/>
                </a:moveTo>
                <a:lnTo>
                  <a:pt x="19546" y="4142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259680" y="1428840"/>
            <a:ext cx="1206360" cy="384120"/>
          </a:xfrm>
          <a:custGeom>
            <a:avLst/>
            <a:gdLst/>
            <a:ahLst/>
            <a:rect l="l" t="t" r="r" b="b"/>
            <a:pathLst>
              <a:path w="3350" h="1067">
                <a:moveTo>
                  <a:pt x="17413" y="4564"/>
                </a:moveTo>
                <a:cubicBezTo>
                  <a:pt x="17413" y="4681"/>
                  <a:pt x="17435" y="4792"/>
                  <a:pt x="17438" y="4911"/>
                </a:cubicBezTo>
                <a:cubicBezTo>
                  <a:pt x="17438" y="4989"/>
                  <a:pt x="17454" y="5007"/>
                  <a:pt x="17413" y="5035"/>
                </a:cubicBezTo>
                <a:cubicBezTo>
                  <a:pt x="17389" y="4893"/>
                  <a:pt x="17367" y="4736"/>
                  <a:pt x="17388" y="4589"/>
                </a:cubicBezTo>
                <a:cubicBezTo>
                  <a:pt x="17405" y="4470"/>
                  <a:pt x="17489" y="4114"/>
                  <a:pt x="17686" y="4142"/>
                </a:cubicBezTo>
                <a:cubicBezTo>
                  <a:pt x="17868" y="4168"/>
                  <a:pt x="17812" y="4415"/>
                  <a:pt x="17760" y="4514"/>
                </a:cubicBezTo>
                <a:cubicBezTo>
                  <a:pt x="17718" y="4595"/>
                  <a:pt x="17573" y="4739"/>
                  <a:pt x="17462" y="4688"/>
                </a:cubicBezTo>
                <a:cubicBezTo>
                  <a:pt x="17418" y="4643"/>
                  <a:pt x="17402" y="4633"/>
                  <a:pt x="17413" y="4589"/>
                </a:cubicBezTo>
              </a:path>
              <a:path w="3350" h="1067">
                <a:moveTo>
                  <a:pt x="18132" y="4316"/>
                </a:moveTo>
                <a:cubicBezTo>
                  <a:pt x="18050" y="4316"/>
                  <a:pt x="18033" y="4364"/>
                  <a:pt x="18008" y="4440"/>
                </a:cubicBezTo>
                <a:cubicBezTo>
                  <a:pt x="17970" y="4557"/>
                  <a:pt x="17973" y="4574"/>
                  <a:pt x="18033" y="4663"/>
                </a:cubicBezTo>
                <a:cubicBezTo>
                  <a:pt x="18115" y="4644"/>
                  <a:pt x="18326" y="4574"/>
                  <a:pt x="18306" y="4440"/>
                </a:cubicBezTo>
                <a:cubicBezTo>
                  <a:pt x="18287" y="4317"/>
                  <a:pt x="18172" y="4316"/>
                  <a:pt x="18083" y="4316"/>
                </a:cubicBezTo>
                <a:cubicBezTo>
                  <a:pt x="18075" y="4316"/>
                  <a:pt x="18066" y="4316"/>
                  <a:pt x="18058" y="4316"/>
                </a:cubicBezTo>
              </a:path>
              <a:path w="3350" h="1067">
                <a:moveTo>
                  <a:pt x="18579" y="4242"/>
                </a:moveTo>
                <a:cubicBezTo>
                  <a:pt x="18525" y="4272"/>
                  <a:pt x="18477" y="4301"/>
                  <a:pt x="18430" y="4341"/>
                </a:cubicBezTo>
                <a:cubicBezTo>
                  <a:pt x="18495" y="4390"/>
                  <a:pt x="18574" y="4349"/>
                  <a:pt x="18653" y="4390"/>
                </a:cubicBezTo>
                <a:cubicBezTo>
                  <a:pt x="18795" y="4463"/>
                  <a:pt x="18638" y="4628"/>
                  <a:pt x="18554" y="4663"/>
                </a:cubicBezTo>
                <a:cubicBezTo>
                  <a:pt x="18467" y="4699"/>
                  <a:pt x="18463" y="4663"/>
                  <a:pt x="18455" y="4614"/>
                </a:cubicBezTo>
              </a:path>
              <a:path w="3350" h="1067">
                <a:moveTo>
                  <a:pt x="18876" y="4316"/>
                </a:moveTo>
                <a:cubicBezTo>
                  <a:pt x="18893" y="4382"/>
                  <a:pt x="18918" y="4639"/>
                  <a:pt x="18951" y="4539"/>
                </a:cubicBezTo>
              </a:path>
              <a:path w="3350" h="1067">
                <a:moveTo>
                  <a:pt x="19199" y="3969"/>
                </a:moveTo>
                <a:cubicBezTo>
                  <a:pt x="19266" y="4053"/>
                  <a:pt x="19259" y="4114"/>
                  <a:pt x="19273" y="4217"/>
                </a:cubicBezTo>
                <a:cubicBezTo>
                  <a:pt x="19287" y="4324"/>
                  <a:pt x="19298" y="4516"/>
                  <a:pt x="19348" y="4614"/>
                </a:cubicBezTo>
                <a:cubicBezTo>
                  <a:pt x="19348" y="4606"/>
                  <a:pt x="19348" y="4597"/>
                  <a:pt x="19348" y="4589"/>
                </a:cubicBezTo>
              </a:path>
              <a:path w="3350" h="1067">
                <a:moveTo>
                  <a:pt x="19149" y="4341"/>
                </a:moveTo>
                <a:cubicBezTo>
                  <a:pt x="19235" y="4341"/>
                  <a:pt x="19313" y="4323"/>
                  <a:pt x="19397" y="4316"/>
                </a:cubicBezTo>
                <a:cubicBezTo>
                  <a:pt x="19515" y="4306"/>
                  <a:pt x="19551" y="4324"/>
                  <a:pt x="19596" y="4440"/>
                </a:cubicBezTo>
                <a:cubicBezTo>
                  <a:pt x="19624" y="4511"/>
                  <a:pt x="19629" y="4589"/>
                  <a:pt x="19645" y="4589"/>
                </a:cubicBezTo>
              </a:path>
              <a:path w="3350" h="1067">
                <a:moveTo>
                  <a:pt x="19844" y="4366"/>
                </a:moveTo>
                <a:cubicBezTo>
                  <a:pt x="19898" y="4454"/>
                  <a:pt x="19947" y="4589"/>
                  <a:pt x="20017" y="4589"/>
                </a:cubicBezTo>
                <a:cubicBezTo>
                  <a:pt x="20017" y="4478"/>
                  <a:pt x="20037" y="4376"/>
                  <a:pt x="20042" y="4266"/>
                </a:cubicBezTo>
                <a:cubicBezTo>
                  <a:pt x="20042" y="4225"/>
                  <a:pt x="20034" y="4209"/>
                  <a:pt x="20067" y="4217"/>
                </a:cubicBezTo>
              </a:path>
              <a:path w="3350" h="1067">
                <a:moveTo>
                  <a:pt x="20216" y="4390"/>
                </a:moveTo>
                <a:cubicBezTo>
                  <a:pt x="20308" y="4390"/>
                  <a:pt x="20379" y="4379"/>
                  <a:pt x="20464" y="4341"/>
                </a:cubicBezTo>
                <a:cubicBezTo>
                  <a:pt x="20480" y="4333"/>
                  <a:pt x="20497" y="4324"/>
                  <a:pt x="20513" y="4316"/>
                </a:cubicBezTo>
                <a:cubicBezTo>
                  <a:pt x="20472" y="4291"/>
                  <a:pt x="20377" y="4256"/>
                  <a:pt x="20340" y="4316"/>
                </a:cubicBezTo>
                <a:cubicBezTo>
                  <a:pt x="20281" y="4411"/>
                  <a:pt x="20274" y="4553"/>
                  <a:pt x="20389" y="4614"/>
                </a:cubicBezTo>
                <a:cubicBezTo>
                  <a:pt x="20503" y="4674"/>
                  <a:pt x="20632" y="4611"/>
                  <a:pt x="20737" y="456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429000" y="5357880"/>
            <a:ext cx="2973240" cy="98280"/>
          </a:xfrm>
          <a:custGeom>
            <a:avLst/>
            <a:gdLst/>
            <a:ahLst/>
            <a:rect l="l" t="t" r="r" b="b"/>
            <a:pathLst>
              <a:path w="8261" h="274">
                <a:moveTo>
                  <a:pt x="9525" y="14932"/>
                </a:moveTo>
                <a:cubicBezTo>
                  <a:pt x="9525" y="14924"/>
                  <a:pt x="9525" y="14916"/>
                  <a:pt x="9525" y="14908"/>
                </a:cubicBezTo>
                <a:cubicBezTo>
                  <a:pt x="9564" y="14917"/>
                  <a:pt x="9580" y="14932"/>
                  <a:pt x="9624" y="14932"/>
                </a:cubicBezTo>
                <a:cubicBezTo>
                  <a:pt x="9950" y="14932"/>
                  <a:pt x="10300" y="14962"/>
                  <a:pt x="10616" y="14908"/>
                </a:cubicBezTo>
                <a:cubicBezTo>
                  <a:pt x="10685" y="14896"/>
                  <a:pt x="10769" y="14908"/>
                  <a:pt x="10840" y="14908"/>
                </a:cubicBezTo>
              </a:path>
              <a:path w="8261" h="274">
                <a:moveTo>
                  <a:pt x="11261" y="14982"/>
                </a:moveTo>
                <a:cubicBezTo>
                  <a:pt x="11282" y="14999"/>
                  <a:pt x="11290" y="15021"/>
                  <a:pt x="11336" y="15032"/>
                </a:cubicBezTo>
                <a:cubicBezTo>
                  <a:pt x="11390" y="15045"/>
                  <a:pt x="11511" y="15052"/>
                  <a:pt x="11534" y="15056"/>
                </a:cubicBezTo>
                <a:cubicBezTo>
                  <a:pt x="11595" y="15066"/>
                  <a:pt x="11608" y="15040"/>
                  <a:pt x="11658" y="15032"/>
                </a:cubicBezTo>
                <a:cubicBezTo>
                  <a:pt x="11899" y="14995"/>
                  <a:pt x="12195" y="15028"/>
                  <a:pt x="12427" y="15056"/>
                </a:cubicBezTo>
                <a:cubicBezTo>
                  <a:pt x="12534" y="15069"/>
                  <a:pt x="12648" y="15068"/>
                  <a:pt x="12750" y="15081"/>
                </a:cubicBezTo>
                <a:cubicBezTo>
                  <a:pt x="12834" y="15092"/>
                  <a:pt x="12912" y="15106"/>
                  <a:pt x="12998" y="15106"/>
                </a:cubicBezTo>
                <a:cubicBezTo>
                  <a:pt x="13119" y="15106"/>
                  <a:pt x="13231" y="15112"/>
                  <a:pt x="13345" y="15131"/>
                </a:cubicBezTo>
                <a:cubicBezTo>
                  <a:pt x="13433" y="15146"/>
                  <a:pt x="13530" y="15144"/>
                  <a:pt x="13618" y="15156"/>
                </a:cubicBezTo>
                <a:cubicBezTo>
                  <a:pt x="13736" y="15172"/>
                  <a:pt x="13863" y="15148"/>
                  <a:pt x="13965" y="15131"/>
                </a:cubicBezTo>
                <a:cubicBezTo>
                  <a:pt x="14028" y="15120"/>
                  <a:pt x="14033" y="15121"/>
                  <a:pt x="14064" y="15106"/>
                </a:cubicBezTo>
              </a:path>
              <a:path w="8261" h="274">
                <a:moveTo>
                  <a:pt x="15925" y="15007"/>
                </a:moveTo>
                <a:cubicBezTo>
                  <a:pt x="15933" y="15007"/>
                  <a:pt x="15941" y="15007"/>
                  <a:pt x="15949" y="15007"/>
                </a:cubicBezTo>
                <a:cubicBezTo>
                  <a:pt x="15988" y="14981"/>
                  <a:pt x="15935" y="14981"/>
                  <a:pt x="15974" y="15007"/>
                </a:cubicBezTo>
                <a:cubicBezTo>
                  <a:pt x="16019" y="15013"/>
                  <a:pt x="16055" y="15026"/>
                  <a:pt x="16098" y="15032"/>
                </a:cubicBezTo>
                <a:cubicBezTo>
                  <a:pt x="16216" y="15049"/>
                  <a:pt x="16351" y="15032"/>
                  <a:pt x="16470" y="15032"/>
                </a:cubicBezTo>
                <a:cubicBezTo>
                  <a:pt x="16496" y="15019"/>
                  <a:pt x="16517" y="15022"/>
                  <a:pt x="16570" y="15007"/>
                </a:cubicBezTo>
                <a:cubicBezTo>
                  <a:pt x="16620" y="14993"/>
                  <a:pt x="16635" y="14985"/>
                  <a:pt x="16694" y="14982"/>
                </a:cubicBezTo>
                <a:cubicBezTo>
                  <a:pt x="16742" y="14979"/>
                  <a:pt x="16781" y="14964"/>
                  <a:pt x="16818" y="14957"/>
                </a:cubicBezTo>
                <a:cubicBezTo>
                  <a:pt x="16866" y="14947"/>
                  <a:pt x="16926" y="14940"/>
                  <a:pt x="16966" y="14932"/>
                </a:cubicBezTo>
                <a:cubicBezTo>
                  <a:pt x="17028" y="14919"/>
                  <a:pt x="17103" y="14911"/>
                  <a:pt x="17165" y="14908"/>
                </a:cubicBezTo>
                <a:cubicBezTo>
                  <a:pt x="17244" y="14904"/>
                  <a:pt x="17314" y="14895"/>
                  <a:pt x="17388" y="14883"/>
                </a:cubicBezTo>
                <a:cubicBezTo>
                  <a:pt x="17513" y="14863"/>
                  <a:pt x="17659" y="14883"/>
                  <a:pt x="17785" y="1488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380520" y="152280"/>
            <a:ext cx="754380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Examples: Write each integer that represents the situat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1.) a $13 profit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2.) a 20 point decreas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3.) a gain of 9 yard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384800" y="1428840"/>
            <a:ext cx="295200" cy="268200"/>
          </a:xfrm>
          <a:custGeom>
            <a:avLst/>
            <a:gdLst/>
            <a:ahLst/>
            <a:rect l="l" t="t" r="r" b="b"/>
            <a:pathLst>
              <a:path w="820" h="745">
                <a:moveTo>
                  <a:pt x="12204" y="3994"/>
                </a:moveTo>
                <a:cubicBezTo>
                  <a:pt x="12140" y="4014"/>
                  <a:pt x="12220" y="4285"/>
                  <a:pt x="12229" y="4341"/>
                </a:cubicBezTo>
                <a:cubicBezTo>
                  <a:pt x="12249" y="4467"/>
                  <a:pt x="12278" y="4586"/>
                  <a:pt x="12278" y="4713"/>
                </a:cubicBezTo>
                <a:cubicBezTo>
                  <a:pt x="12278" y="4705"/>
                  <a:pt x="12278" y="4696"/>
                  <a:pt x="12278" y="4688"/>
                </a:cubicBezTo>
              </a:path>
              <a:path w="820" h="745">
                <a:moveTo>
                  <a:pt x="12502" y="4093"/>
                </a:moveTo>
                <a:cubicBezTo>
                  <a:pt x="12547" y="4033"/>
                  <a:pt x="12707" y="3969"/>
                  <a:pt x="12799" y="3969"/>
                </a:cubicBezTo>
                <a:cubicBezTo>
                  <a:pt x="12824" y="3977"/>
                  <a:pt x="12849" y="3986"/>
                  <a:pt x="12874" y="3994"/>
                </a:cubicBezTo>
                <a:cubicBezTo>
                  <a:pt x="12862" y="4132"/>
                  <a:pt x="12848" y="4158"/>
                  <a:pt x="12725" y="4217"/>
                </a:cubicBezTo>
                <a:cubicBezTo>
                  <a:pt x="12682" y="4238"/>
                  <a:pt x="12638" y="4272"/>
                  <a:pt x="12675" y="4217"/>
                </a:cubicBezTo>
                <a:cubicBezTo>
                  <a:pt x="12796" y="4217"/>
                  <a:pt x="12975" y="4200"/>
                  <a:pt x="12998" y="4366"/>
                </a:cubicBezTo>
                <a:cubicBezTo>
                  <a:pt x="13017" y="4505"/>
                  <a:pt x="12901" y="4684"/>
                  <a:pt x="12750" y="4663"/>
                </a:cubicBezTo>
                <a:cubicBezTo>
                  <a:pt x="12709" y="4657"/>
                  <a:pt x="12687" y="4623"/>
                  <a:pt x="12650" y="461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197320" y="3259080"/>
            <a:ext cx="615960" cy="268200"/>
          </a:xfrm>
          <a:custGeom>
            <a:avLst/>
            <a:gdLst/>
            <a:ahLst/>
            <a:rect l="l" t="t" r="r" b="b"/>
            <a:pathLst>
              <a:path w="1713" h="745">
                <a:moveTo>
                  <a:pt x="14436" y="9327"/>
                </a:moveTo>
                <a:cubicBezTo>
                  <a:pt x="14516" y="9327"/>
                  <a:pt x="14580" y="9318"/>
                  <a:pt x="14660" y="9302"/>
                </a:cubicBezTo>
                <a:cubicBezTo>
                  <a:pt x="14742" y="9286"/>
                  <a:pt x="14941" y="9277"/>
                  <a:pt x="14858" y="9277"/>
                </a:cubicBezTo>
              </a:path>
              <a:path w="1713" h="745">
                <a:moveTo>
                  <a:pt x="15180" y="9128"/>
                </a:moveTo>
                <a:cubicBezTo>
                  <a:pt x="15202" y="9040"/>
                  <a:pt x="15301" y="9056"/>
                  <a:pt x="15379" y="9054"/>
                </a:cubicBezTo>
                <a:cubicBezTo>
                  <a:pt x="15453" y="9054"/>
                  <a:pt x="15462" y="9054"/>
                  <a:pt x="15503" y="9054"/>
                </a:cubicBezTo>
                <a:cubicBezTo>
                  <a:pt x="15390" y="9269"/>
                  <a:pt x="15240" y="9458"/>
                  <a:pt x="15056" y="9624"/>
                </a:cubicBezTo>
                <a:cubicBezTo>
                  <a:pt x="14984" y="9679"/>
                  <a:pt x="14951" y="9670"/>
                  <a:pt x="14957" y="9723"/>
                </a:cubicBezTo>
                <a:cubicBezTo>
                  <a:pt x="15101" y="9766"/>
                  <a:pt x="15230" y="9736"/>
                  <a:pt x="15379" y="9723"/>
                </a:cubicBezTo>
                <a:cubicBezTo>
                  <a:pt x="15436" y="9723"/>
                  <a:pt x="15461" y="9740"/>
                  <a:pt x="15453" y="9699"/>
                </a:cubicBezTo>
              </a:path>
              <a:path w="1713" h="745">
                <a:moveTo>
                  <a:pt x="15949" y="9153"/>
                </a:moveTo>
                <a:cubicBezTo>
                  <a:pt x="15761" y="9234"/>
                  <a:pt x="15607" y="9362"/>
                  <a:pt x="15553" y="9575"/>
                </a:cubicBezTo>
                <a:cubicBezTo>
                  <a:pt x="15553" y="9704"/>
                  <a:pt x="15542" y="9737"/>
                  <a:pt x="15602" y="9798"/>
                </a:cubicBezTo>
                <a:cubicBezTo>
                  <a:pt x="15848" y="9774"/>
                  <a:pt x="16008" y="9694"/>
                  <a:pt x="16123" y="9451"/>
                </a:cubicBezTo>
                <a:cubicBezTo>
                  <a:pt x="16240" y="9203"/>
                  <a:pt x="15919" y="9233"/>
                  <a:pt x="15776" y="922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062680" y="4867200"/>
            <a:ext cx="403200" cy="276480"/>
          </a:xfrm>
          <a:custGeom>
            <a:avLst/>
            <a:gdLst/>
            <a:ahLst/>
            <a:rect l="l" t="t" r="r" b="b"/>
            <a:pathLst>
              <a:path w="1117" h="770">
                <a:moveTo>
                  <a:pt x="14412" y="13742"/>
                </a:moveTo>
                <a:cubicBezTo>
                  <a:pt x="14436" y="13839"/>
                  <a:pt x="14414" y="13952"/>
                  <a:pt x="14412" y="14064"/>
                </a:cubicBezTo>
                <a:cubicBezTo>
                  <a:pt x="14412" y="14172"/>
                  <a:pt x="14412" y="14197"/>
                  <a:pt x="14412" y="14263"/>
                </a:cubicBezTo>
              </a:path>
              <a:path w="1117" h="770">
                <a:moveTo>
                  <a:pt x="14064" y="14039"/>
                </a:moveTo>
                <a:cubicBezTo>
                  <a:pt x="14219" y="13999"/>
                  <a:pt x="14385" y="13978"/>
                  <a:pt x="14536" y="13940"/>
                </a:cubicBezTo>
                <a:cubicBezTo>
                  <a:pt x="14576" y="13920"/>
                  <a:pt x="14592" y="13901"/>
                  <a:pt x="14585" y="13940"/>
                </a:cubicBezTo>
              </a:path>
              <a:path w="1117" h="770">
                <a:moveTo>
                  <a:pt x="15156" y="13841"/>
                </a:moveTo>
                <a:cubicBezTo>
                  <a:pt x="15170" y="13771"/>
                  <a:pt x="15196" y="13738"/>
                  <a:pt x="15156" y="13667"/>
                </a:cubicBezTo>
                <a:cubicBezTo>
                  <a:pt x="15086" y="13543"/>
                  <a:pt x="15019" y="13509"/>
                  <a:pt x="14883" y="13543"/>
                </a:cubicBezTo>
                <a:cubicBezTo>
                  <a:pt x="14728" y="13582"/>
                  <a:pt x="14660" y="13794"/>
                  <a:pt x="14660" y="13940"/>
                </a:cubicBezTo>
                <a:cubicBezTo>
                  <a:pt x="14668" y="13973"/>
                  <a:pt x="14676" y="14006"/>
                  <a:pt x="14684" y="14039"/>
                </a:cubicBezTo>
                <a:cubicBezTo>
                  <a:pt x="14832" y="14060"/>
                  <a:pt x="14978" y="14048"/>
                  <a:pt x="15081" y="13915"/>
                </a:cubicBezTo>
                <a:cubicBezTo>
                  <a:pt x="15155" y="13819"/>
                  <a:pt x="15131" y="13705"/>
                  <a:pt x="15131" y="13593"/>
                </a:cubicBezTo>
                <a:cubicBezTo>
                  <a:pt x="15063" y="13684"/>
                  <a:pt x="15106" y="13879"/>
                  <a:pt x="15106" y="13990"/>
                </a:cubicBezTo>
                <a:cubicBezTo>
                  <a:pt x="15106" y="14102"/>
                  <a:pt x="15100" y="14186"/>
                  <a:pt x="15131" y="1428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380520" y="152280"/>
            <a:ext cx="754380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Examples: Write the integer that represents the situat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.) a Withdrawal of $15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5.) a deposit of $10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6.) 19 feet below sea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126120" y="1581120"/>
            <a:ext cx="98640" cy="1440"/>
          </a:xfrm>
          <a:custGeom>
            <a:avLst/>
            <a:gdLst/>
            <a:ahLst/>
            <a:rect l="l" t="t" r="r" b="b"/>
            <a:pathLst>
              <a:path w="274" h="1">
                <a:moveTo>
                  <a:pt x="17016" y="4390"/>
                </a:moveTo>
                <a:cubicBezTo>
                  <a:pt x="17107" y="4390"/>
                  <a:pt x="17198" y="4390"/>
                  <a:pt x="17289" y="439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57960" y="1446120"/>
            <a:ext cx="295200" cy="277920"/>
          </a:xfrm>
          <a:custGeom>
            <a:avLst/>
            <a:gdLst/>
            <a:ahLst/>
            <a:rect l="l" t="t" r="r" b="b"/>
            <a:pathLst>
              <a:path w="819" h="770">
                <a:moveTo>
                  <a:pt x="17661" y="4142"/>
                </a:moveTo>
                <a:cubicBezTo>
                  <a:pt x="17700" y="4284"/>
                  <a:pt x="17721" y="4462"/>
                  <a:pt x="17735" y="4614"/>
                </a:cubicBezTo>
                <a:cubicBezTo>
                  <a:pt x="17741" y="4682"/>
                  <a:pt x="17760" y="4830"/>
                  <a:pt x="17760" y="4762"/>
                </a:cubicBezTo>
                <a:cubicBezTo>
                  <a:pt x="17760" y="4737"/>
                  <a:pt x="17760" y="4713"/>
                  <a:pt x="17760" y="4688"/>
                </a:cubicBezTo>
              </a:path>
              <a:path w="819" h="770">
                <a:moveTo>
                  <a:pt x="18355" y="4018"/>
                </a:moveTo>
                <a:cubicBezTo>
                  <a:pt x="18294" y="4018"/>
                  <a:pt x="18242" y="4039"/>
                  <a:pt x="18182" y="4043"/>
                </a:cubicBezTo>
                <a:cubicBezTo>
                  <a:pt x="18150" y="4045"/>
                  <a:pt x="18072" y="4023"/>
                  <a:pt x="18058" y="4068"/>
                </a:cubicBezTo>
                <a:cubicBezTo>
                  <a:pt x="18034" y="4146"/>
                  <a:pt x="18072" y="4246"/>
                  <a:pt x="18083" y="4316"/>
                </a:cubicBezTo>
                <a:cubicBezTo>
                  <a:pt x="18083" y="4357"/>
                  <a:pt x="18083" y="4365"/>
                  <a:pt x="18083" y="4390"/>
                </a:cubicBezTo>
                <a:cubicBezTo>
                  <a:pt x="18135" y="4351"/>
                  <a:pt x="18130" y="4369"/>
                  <a:pt x="18182" y="4341"/>
                </a:cubicBezTo>
                <a:cubicBezTo>
                  <a:pt x="18273" y="4292"/>
                  <a:pt x="18297" y="4330"/>
                  <a:pt x="18380" y="4366"/>
                </a:cubicBezTo>
                <a:cubicBezTo>
                  <a:pt x="18410" y="4379"/>
                  <a:pt x="18471" y="4489"/>
                  <a:pt x="18479" y="4539"/>
                </a:cubicBezTo>
                <a:cubicBezTo>
                  <a:pt x="18492" y="4616"/>
                  <a:pt x="18449" y="4698"/>
                  <a:pt x="18380" y="4738"/>
                </a:cubicBezTo>
                <a:cubicBezTo>
                  <a:pt x="18330" y="4767"/>
                  <a:pt x="18201" y="4713"/>
                  <a:pt x="18157" y="4688"/>
                </a:cubicBezTo>
                <a:cubicBezTo>
                  <a:pt x="18123" y="4669"/>
                  <a:pt x="18132" y="4646"/>
                  <a:pt x="18132" y="461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153120" y="3036960"/>
            <a:ext cx="249120" cy="258840"/>
          </a:xfrm>
          <a:custGeom>
            <a:avLst/>
            <a:gdLst/>
            <a:ahLst/>
            <a:rect l="l" t="t" r="r" b="b"/>
            <a:pathLst>
              <a:path w="696" h="720">
                <a:moveTo>
                  <a:pt x="17090" y="8434"/>
                </a:moveTo>
                <a:cubicBezTo>
                  <a:pt x="17090" y="8594"/>
                  <a:pt x="17088" y="8747"/>
                  <a:pt x="17115" y="8905"/>
                </a:cubicBezTo>
                <a:cubicBezTo>
                  <a:pt x="17129" y="8988"/>
                  <a:pt x="17153" y="9070"/>
                  <a:pt x="17165" y="9153"/>
                </a:cubicBezTo>
              </a:path>
              <a:path w="696" h="720">
                <a:moveTo>
                  <a:pt x="17462" y="8558"/>
                </a:moveTo>
                <a:cubicBezTo>
                  <a:pt x="17377" y="8558"/>
                  <a:pt x="17370" y="8576"/>
                  <a:pt x="17338" y="8657"/>
                </a:cubicBezTo>
                <a:cubicBezTo>
                  <a:pt x="17301" y="8752"/>
                  <a:pt x="17315" y="8883"/>
                  <a:pt x="17338" y="8979"/>
                </a:cubicBezTo>
                <a:cubicBezTo>
                  <a:pt x="17365" y="9090"/>
                  <a:pt x="17470" y="9114"/>
                  <a:pt x="17562" y="9079"/>
                </a:cubicBezTo>
                <a:cubicBezTo>
                  <a:pt x="17671" y="9038"/>
                  <a:pt x="17730" y="8979"/>
                  <a:pt x="17760" y="8880"/>
                </a:cubicBezTo>
                <a:cubicBezTo>
                  <a:pt x="17782" y="8809"/>
                  <a:pt x="17780" y="8712"/>
                  <a:pt x="17711" y="8657"/>
                </a:cubicBezTo>
                <a:cubicBezTo>
                  <a:pt x="17670" y="8625"/>
                  <a:pt x="17634" y="8573"/>
                  <a:pt x="17587" y="8558"/>
                </a:cubicBezTo>
                <a:cubicBezTo>
                  <a:pt x="17579" y="8558"/>
                  <a:pt x="17570" y="8558"/>
                  <a:pt x="17562" y="855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062760" y="4919760"/>
            <a:ext cx="474480" cy="241200"/>
          </a:xfrm>
          <a:custGeom>
            <a:avLst/>
            <a:gdLst/>
            <a:ahLst/>
            <a:rect l="l" t="t" r="r" b="b"/>
            <a:pathLst>
              <a:path w="1316" h="671">
                <a:moveTo>
                  <a:pt x="16842" y="13915"/>
                </a:moveTo>
                <a:cubicBezTo>
                  <a:pt x="16939" y="13915"/>
                  <a:pt x="17020" y="13900"/>
                  <a:pt x="17115" y="13891"/>
                </a:cubicBezTo>
                <a:cubicBezTo>
                  <a:pt x="17176" y="13885"/>
                  <a:pt x="17216" y="13881"/>
                  <a:pt x="17239" y="13915"/>
                </a:cubicBezTo>
              </a:path>
              <a:path w="1316" h="671">
                <a:moveTo>
                  <a:pt x="17462" y="13692"/>
                </a:moveTo>
                <a:cubicBezTo>
                  <a:pt x="17498" y="13853"/>
                  <a:pt x="17536" y="14022"/>
                  <a:pt x="17512" y="14188"/>
                </a:cubicBezTo>
                <a:cubicBezTo>
                  <a:pt x="17493" y="14246"/>
                  <a:pt x="17484" y="14289"/>
                  <a:pt x="17487" y="14238"/>
                </a:cubicBezTo>
              </a:path>
              <a:path w="1316" h="671">
                <a:moveTo>
                  <a:pt x="18132" y="13891"/>
                </a:moveTo>
                <a:cubicBezTo>
                  <a:pt x="18147" y="13832"/>
                  <a:pt x="18156" y="13805"/>
                  <a:pt x="18107" y="13742"/>
                </a:cubicBezTo>
                <a:cubicBezTo>
                  <a:pt x="18071" y="13696"/>
                  <a:pt x="17947" y="13626"/>
                  <a:pt x="17884" y="13667"/>
                </a:cubicBezTo>
                <a:cubicBezTo>
                  <a:pt x="17800" y="13722"/>
                  <a:pt x="17702" y="13912"/>
                  <a:pt x="17810" y="13990"/>
                </a:cubicBezTo>
                <a:cubicBezTo>
                  <a:pt x="17908" y="14061"/>
                  <a:pt x="18048" y="13942"/>
                  <a:pt x="18107" y="13866"/>
                </a:cubicBezTo>
                <a:cubicBezTo>
                  <a:pt x="18125" y="13843"/>
                  <a:pt x="18132" y="13761"/>
                  <a:pt x="18132" y="13816"/>
                </a:cubicBezTo>
                <a:cubicBezTo>
                  <a:pt x="18112" y="13975"/>
                  <a:pt x="18087" y="14126"/>
                  <a:pt x="18083" y="14288"/>
                </a:cubicBezTo>
                <a:cubicBezTo>
                  <a:pt x="18083" y="14304"/>
                  <a:pt x="18083" y="14321"/>
                  <a:pt x="18083" y="1433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705040" y="5180040"/>
            <a:ext cx="930240" cy="71280"/>
          </a:xfrm>
          <a:custGeom>
            <a:avLst/>
            <a:gdLst/>
            <a:ahLst/>
            <a:rect l="l" t="t" r="r" b="b"/>
            <a:pathLst>
              <a:path w="2581" h="199">
                <a:moveTo>
                  <a:pt x="7541" y="14511"/>
                </a:moveTo>
                <a:cubicBezTo>
                  <a:pt x="7555" y="14522"/>
                  <a:pt x="7656" y="14600"/>
                  <a:pt x="7764" y="14585"/>
                </a:cubicBezTo>
                <a:cubicBezTo>
                  <a:pt x="7832" y="14576"/>
                  <a:pt x="7880" y="14524"/>
                  <a:pt x="7938" y="14511"/>
                </a:cubicBezTo>
                <a:cubicBezTo>
                  <a:pt x="8015" y="14494"/>
                  <a:pt x="8073" y="14529"/>
                  <a:pt x="8161" y="14511"/>
                </a:cubicBezTo>
                <a:cubicBezTo>
                  <a:pt x="8249" y="14493"/>
                  <a:pt x="8292" y="14452"/>
                  <a:pt x="8334" y="14486"/>
                </a:cubicBezTo>
                <a:cubicBezTo>
                  <a:pt x="8416" y="14552"/>
                  <a:pt x="8459" y="14623"/>
                  <a:pt x="8582" y="14585"/>
                </a:cubicBezTo>
                <a:cubicBezTo>
                  <a:pt x="8668" y="14558"/>
                  <a:pt x="8778" y="14494"/>
                  <a:pt x="8830" y="14486"/>
                </a:cubicBezTo>
                <a:cubicBezTo>
                  <a:pt x="8949" y="14468"/>
                  <a:pt x="9072" y="14493"/>
                  <a:pt x="9178" y="14412"/>
                </a:cubicBezTo>
                <a:cubicBezTo>
                  <a:pt x="9178" y="14404"/>
                  <a:pt x="9178" y="14395"/>
                  <a:pt x="9178" y="14387"/>
                </a:cubicBezTo>
                <a:cubicBezTo>
                  <a:pt x="9240" y="14449"/>
                  <a:pt x="9184" y="14453"/>
                  <a:pt x="9302" y="14461"/>
                </a:cubicBezTo>
                <a:cubicBezTo>
                  <a:pt x="9391" y="14467"/>
                  <a:pt x="9453" y="14443"/>
                  <a:pt x="9525" y="14412"/>
                </a:cubicBezTo>
                <a:cubicBezTo>
                  <a:pt x="9603" y="14482"/>
                  <a:pt x="9637" y="14503"/>
                  <a:pt x="9773" y="14486"/>
                </a:cubicBezTo>
                <a:cubicBezTo>
                  <a:pt x="9881" y="14473"/>
                  <a:pt x="9992" y="14437"/>
                  <a:pt x="10096" y="1441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380520" y="152280"/>
            <a:ext cx="754380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Examples: Write the integer that represents the situa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7.) 20°F below 0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8.) 3 seconds before liftoff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9.) no gain on th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dow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10.) a growth of 2 inch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52800" y="1616040"/>
            <a:ext cx="1116000" cy="152280"/>
          </a:xfrm>
          <a:custGeom>
            <a:avLst/>
            <a:gdLst/>
            <a:ahLst/>
            <a:rect l="l" t="t" r="r" b="b"/>
            <a:pathLst>
              <a:path w="3102" h="422">
                <a:moveTo>
                  <a:pt x="5978" y="4688"/>
                </a:moveTo>
                <a:cubicBezTo>
                  <a:pt x="6099" y="4755"/>
                  <a:pt x="6205" y="4849"/>
                  <a:pt x="6350" y="4862"/>
                </a:cubicBezTo>
                <a:cubicBezTo>
                  <a:pt x="6497" y="4875"/>
                  <a:pt x="6505" y="4821"/>
                  <a:pt x="6623" y="4762"/>
                </a:cubicBezTo>
                <a:cubicBezTo>
                  <a:pt x="6754" y="4697"/>
                  <a:pt x="6865" y="4850"/>
                  <a:pt x="6995" y="4887"/>
                </a:cubicBezTo>
                <a:cubicBezTo>
                  <a:pt x="7226" y="4953"/>
                  <a:pt x="7340" y="4919"/>
                  <a:pt x="7491" y="4762"/>
                </a:cubicBezTo>
                <a:cubicBezTo>
                  <a:pt x="7508" y="4746"/>
                  <a:pt x="7524" y="4729"/>
                  <a:pt x="7541" y="4713"/>
                </a:cubicBezTo>
                <a:cubicBezTo>
                  <a:pt x="7616" y="4766"/>
                  <a:pt x="7692" y="4809"/>
                  <a:pt x="7813" y="4787"/>
                </a:cubicBezTo>
                <a:cubicBezTo>
                  <a:pt x="7972" y="4758"/>
                  <a:pt x="8134" y="4652"/>
                  <a:pt x="8235" y="4539"/>
                </a:cubicBezTo>
                <a:cubicBezTo>
                  <a:pt x="8275" y="4571"/>
                  <a:pt x="8309" y="4602"/>
                  <a:pt x="8384" y="4638"/>
                </a:cubicBezTo>
                <a:cubicBezTo>
                  <a:pt x="8617" y="4749"/>
                  <a:pt x="8852" y="4637"/>
                  <a:pt x="9054" y="4514"/>
                </a:cubicBezTo>
                <a:cubicBezTo>
                  <a:pt x="9062" y="4506"/>
                  <a:pt x="9071" y="4498"/>
                  <a:pt x="9079" y="449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321080" y="1312920"/>
            <a:ext cx="849240" cy="330120"/>
          </a:xfrm>
          <a:custGeom>
            <a:avLst/>
            <a:gdLst/>
            <a:ahLst/>
            <a:rect l="l" t="t" r="r" b="b"/>
            <a:pathLst>
              <a:path w="2358" h="919">
                <a:moveTo>
                  <a:pt x="12005" y="4043"/>
                </a:moveTo>
                <a:cubicBezTo>
                  <a:pt x="12114" y="4043"/>
                  <a:pt x="12218" y="4020"/>
                  <a:pt x="12328" y="4018"/>
                </a:cubicBezTo>
                <a:cubicBezTo>
                  <a:pt x="12419" y="4018"/>
                  <a:pt x="12427" y="4018"/>
                  <a:pt x="12477" y="4018"/>
                </a:cubicBezTo>
              </a:path>
              <a:path w="2358" h="919">
                <a:moveTo>
                  <a:pt x="13022" y="3746"/>
                </a:moveTo>
                <a:cubicBezTo>
                  <a:pt x="13079" y="3650"/>
                  <a:pt x="13161" y="3652"/>
                  <a:pt x="13271" y="3646"/>
                </a:cubicBezTo>
                <a:cubicBezTo>
                  <a:pt x="13279" y="3646"/>
                  <a:pt x="13287" y="3646"/>
                  <a:pt x="13295" y="3646"/>
                </a:cubicBezTo>
                <a:cubicBezTo>
                  <a:pt x="13280" y="3862"/>
                  <a:pt x="13204" y="3992"/>
                  <a:pt x="13072" y="4167"/>
                </a:cubicBezTo>
                <a:cubicBezTo>
                  <a:pt x="12984" y="4284"/>
                  <a:pt x="12874" y="4367"/>
                  <a:pt x="12849" y="4514"/>
                </a:cubicBezTo>
                <a:cubicBezTo>
                  <a:pt x="13010" y="4549"/>
                  <a:pt x="13155" y="4519"/>
                  <a:pt x="13320" y="4514"/>
                </a:cubicBezTo>
                <a:cubicBezTo>
                  <a:pt x="13378" y="4514"/>
                  <a:pt x="13386" y="4514"/>
                  <a:pt x="13419" y="4514"/>
                </a:cubicBezTo>
              </a:path>
              <a:path w="2358" h="919">
                <a:moveTo>
                  <a:pt x="14089" y="3721"/>
                </a:moveTo>
                <a:cubicBezTo>
                  <a:pt x="14004" y="3721"/>
                  <a:pt x="13943" y="3743"/>
                  <a:pt x="13891" y="3820"/>
                </a:cubicBezTo>
                <a:cubicBezTo>
                  <a:pt x="13783" y="3980"/>
                  <a:pt x="13628" y="4210"/>
                  <a:pt x="13667" y="4415"/>
                </a:cubicBezTo>
                <a:cubicBezTo>
                  <a:pt x="13684" y="4448"/>
                  <a:pt x="13700" y="4481"/>
                  <a:pt x="13717" y="4514"/>
                </a:cubicBezTo>
                <a:cubicBezTo>
                  <a:pt x="13924" y="4546"/>
                  <a:pt x="14154" y="4477"/>
                  <a:pt x="14288" y="4266"/>
                </a:cubicBezTo>
                <a:cubicBezTo>
                  <a:pt x="14386" y="4112"/>
                  <a:pt x="14387" y="3911"/>
                  <a:pt x="14238" y="3795"/>
                </a:cubicBezTo>
                <a:cubicBezTo>
                  <a:pt x="14156" y="3731"/>
                  <a:pt x="14084" y="3746"/>
                  <a:pt x="13990" y="374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670800" y="2384280"/>
            <a:ext cx="419040" cy="295560"/>
          </a:xfrm>
          <a:custGeom>
            <a:avLst/>
            <a:gdLst/>
            <a:ahLst/>
            <a:rect l="l" t="t" r="r" b="b"/>
            <a:pathLst>
              <a:path w="1167" h="819">
                <a:moveTo>
                  <a:pt x="18529" y="6995"/>
                </a:moveTo>
                <a:cubicBezTo>
                  <a:pt x="18628" y="6978"/>
                  <a:pt x="18726" y="6936"/>
                  <a:pt x="18827" y="6921"/>
                </a:cubicBezTo>
                <a:cubicBezTo>
                  <a:pt x="18868" y="6921"/>
                  <a:pt x="18876" y="6921"/>
                  <a:pt x="18901" y="6921"/>
                </a:cubicBezTo>
              </a:path>
              <a:path w="1167" h="819">
                <a:moveTo>
                  <a:pt x="19248" y="6772"/>
                </a:moveTo>
                <a:cubicBezTo>
                  <a:pt x="19226" y="6738"/>
                  <a:pt x="19280" y="6699"/>
                  <a:pt x="19348" y="6672"/>
                </a:cubicBezTo>
                <a:cubicBezTo>
                  <a:pt x="19414" y="6646"/>
                  <a:pt x="19502" y="6633"/>
                  <a:pt x="19571" y="6623"/>
                </a:cubicBezTo>
                <a:cubicBezTo>
                  <a:pt x="19579" y="6717"/>
                  <a:pt x="19542" y="6830"/>
                  <a:pt x="19447" y="6896"/>
                </a:cubicBezTo>
                <a:cubicBezTo>
                  <a:pt x="19389" y="6915"/>
                  <a:pt x="19383" y="6924"/>
                  <a:pt x="19348" y="6921"/>
                </a:cubicBezTo>
                <a:cubicBezTo>
                  <a:pt x="19421" y="6921"/>
                  <a:pt x="19563" y="6893"/>
                  <a:pt x="19621" y="6945"/>
                </a:cubicBezTo>
                <a:cubicBezTo>
                  <a:pt x="19749" y="7059"/>
                  <a:pt x="19683" y="7230"/>
                  <a:pt x="19571" y="7317"/>
                </a:cubicBezTo>
                <a:cubicBezTo>
                  <a:pt x="19527" y="7351"/>
                  <a:pt x="19321" y="7499"/>
                  <a:pt x="19248" y="7441"/>
                </a:cubicBezTo>
                <a:cubicBezTo>
                  <a:pt x="19248" y="7433"/>
                  <a:pt x="19248" y="7425"/>
                  <a:pt x="19248" y="741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178080" y="2776680"/>
            <a:ext cx="1179720" cy="90360"/>
          </a:xfrm>
          <a:custGeom>
            <a:avLst/>
            <a:gdLst/>
            <a:ahLst/>
            <a:rect l="l" t="t" r="r" b="b"/>
            <a:pathLst>
              <a:path w="3276" h="249">
                <a:moveTo>
                  <a:pt x="8830" y="7888"/>
                </a:moveTo>
                <a:cubicBezTo>
                  <a:pt x="8866" y="7897"/>
                  <a:pt x="8879" y="7862"/>
                  <a:pt x="8905" y="7888"/>
                </a:cubicBezTo>
                <a:cubicBezTo>
                  <a:pt x="8962" y="7945"/>
                  <a:pt x="8976" y="8008"/>
                  <a:pt x="9079" y="7938"/>
                </a:cubicBezTo>
                <a:cubicBezTo>
                  <a:pt x="9110" y="7917"/>
                  <a:pt x="9151" y="7857"/>
                  <a:pt x="9178" y="7863"/>
                </a:cubicBezTo>
                <a:cubicBezTo>
                  <a:pt x="9240" y="7877"/>
                  <a:pt x="9260" y="7945"/>
                  <a:pt x="9327" y="7962"/>
                </a:cubicBezTo>
                <a:cubicBezTo>
                  <a:pt x="9438" y="7990"/>
                  <a:pt x="9520" y="7868"/>
                  <a:pt x="9575" y="7863"/>
                </a:cubicBezTo>
                <a:cubicBezTo>
                  <a:pt x="9651" y="7856"/>
                  <a:pt x="9715" y="7932"/>
                  <a:pt x="9798" y="7938"/>
                </a:cubicBezTo>
                <a:cubicBezTo>
                  <a:pt x="9927" y="7948"/>
                  <a:pt x="10038" y="7849"/>
                  <a:pt x="10145" y="7789"/>
                </a:cubicBezTo>
                <a:cubicBezTo>
                  <a:pt x="10162" y="7781"/>
                  <a:pt x="10178" y="7772"/>
                  <a:pt x="10195" y="7764"/>
                </a:cubicBezTo>
                <a:cubicBezTo>
                  <a:pt x="10243" y="7859"/>
                  <a:pt x="10273" y="7901"/>
                  <a:pt x="10393" y="7888"/>
                </a:cubicBezTo>
                <a:cubicBezTo>
                  <a:pt x="10553" y="7871"/>
                  <a:pt x="10640" y="7801"/>
                  <a:pt x="10765" y="7714"/>
                </a:cubicBezTo>
                <a:cubicBezTo>
                  <a:pt x="10790" y="7745"/>
                  <a:pt x="10780" y="7815"/>
                  <a:pt x="10864" y="7813"/>
                </a:cubicBezTo>
                <a:cubicBezTo>
                  <a:pt x="10948" y="7811"/>
                  <a:pt x="10992" y="7762"/>
                  <a:pt x="11038" y="7739"/>
                </a:cubicBezTo>
                <a:cubicBezTo>
                  <a:pt x="11046" y="7739"/>
                  <a:pt x="11055" y="7739"/>
                  <a:pt x="11063" y="7739"/>
                </a:cubicBezTo>
                <a:cubicBezTo>
                  <a:pt x="11090" y="7797"/>
                  <a:pt x="11104" y="7873"/>
                  <a:pt x="11187" y="7888"/>
                </a:cubicBezTo>
                <a:cubicBezTo>
                  <a:pt x="11317" y="7911"/>
                  <a:pt x="11478" y="7859"/>
                  <a:pt x="11584" y="7789"/>
                </a:cubicBezTo>
                <a:cubicBezTo>
                  <a:pt x="11592" y="7781"/>
                  <a:pt x="11601" y="7772"/>
                  <a:pt x="11609" y="7764"/>
                </a:cubicBezTo>
                <a:cubicBezTo>
                  <a:pt x="11614" y="7773"/>
                  <a:pt x="11657" y="7851"/>
                  <a:pt x="11683" y="7863"/>
                </a:cubicBezTo>
                <a:cubicBezTo>
                  <a:pt x="11798" y="7918"/>
                  <a:pt x="11890" y="7856"/>
                  <a:pt x="12005" y="7813"/>
                </a:cubicBezTo>
                <a:cubicBezTo>
                  <a:pt x="12113" y="7773"/>
                  <a:pt x="12058" y="7793"/>
                  <a:pt x="12105" y="773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286680" y="3732120"/>
            <a:ext cx="268200" cy="277920"/>
          </a:xfrm>
          <a:custGeom>
            <a:avLst/>
            <a:gdLst/>
            <a:ahLst/>
            <a:rect l="l" t="t" r="r" b="b"/>
            <a:pathLst>
              <a:path w="746" h="770">
                <a:moveTo>
                  <a:pt x="17711" y="10393"/>
                </a:moveTo>
                <a:cubicBezTo>
                  <a:pt x="17650" y="10393"/>
                  <a:pt x="17628" y="10415"/>
                  <a:pt x="17587" y="10468"/>
                </a:cubicBezTo>
                <a:cubicBezTo>
                  <a:pt x="17507" y="10571"/>
                  <a:pt x="17470" y="10715"/>
                  <a:pt x="17462" y="10840"/>
                </a:cubicBezTo>
                <a:cubicBezTo>
                  <a:pt x="17455" y="10947"/>
                  <a:pt x="17487" y="11056"/>
                  <a:pt x="17587" y="11112"/>
                </a:cubicBezTo>
                <a:cubicBezTo>
                  <a:pt x="17670" y="11159"/>
                  <a:pt x="17844" y="11152"/>
                  <a:pt x="17934" y="11137"/>
                </a:cubicBezTo>
                <a:cubicBezTo>
                  <a:pt x="18011" y="11124"/>
                  <a:pt x="18098" y="11066"/>
                  <a:pt x="18132" y="11013"/>
                </a:cubicBezTo>
                <a:cubicBezTo>
                  <a:pt x="18194" y="10915"/>
                  <a:pt x="18207" y="10880"/>
                  <a:pt x="18207" y="10765"/>
                </a:cubicBezTo>
                <a:cubicBezTo>
                  <a:pt x="18207" y="10672"/>
                  <a:pt x="18202" y="10666"/>
                  <a:pt x="18157" y="10592"/>
                </a:cubicBezTo>
                <a:cubicBezTo>
                  <a:pt x="18116" y="10525"/>
                  <a:pt x="18118" y="10522"/>
                  <a:pt x="18058" y="10468"/>
                </a:cubicBezTo>
                <a:cubicBezTo>
                  <a:pt x="18025" y="10439"/>
                  <a:pt x="18015" y="10397"/>
                  <a:pt x="17983" y="10393"/>
                </a:cubicBezTo>
                <a:cubicBezTo>
                  <a:pt x="17939" y="10387"/>
                  <a:pt x="17902" y="10371"/>
                  <a:pt x="17859" y="10368"/>
                </a:cubicBezTo>
                <a:cubicBezTo>
                  <a:pt x="17799" y="10364"/>
                  <a:pt x="17767" y="10387"/>
                  <a:pt x="17711" y="10393"/>
                </a:cubicBezTo>
                <a:cubicBezTo>
                  <a:pt x="17699" y="10394"/>
                  <a:pt x="17592" y="10411"/>
                  <a:pt x="17587" y="10418"/>
                </a:cubicBezTo>
                <a:cubicBezTo>
                  <a:pt x="17587" y="10443"/>
                  <a:pt x="17587" y="10451"/>
                  <a:pt x="17587" y="1041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018120" y="4749840"/>
            <a:ext cx="277920" cy="349200"/>
          </a:xfrm>
          <a:custGeom>
            <a:avLst/>
            <a:gdLst/>
            <a:ahLst/>
            <a:rect l="l" t="t" r="r" b="b"/>
            <a:pathLst>
              <a:path w="770" h="968">
                <a:moveTo>
                  <a:pt x="17041" y="13494"/>
                </a:moveTo>
                <a:cubicBezTo>
                  <a:pt x="17053" y="13383"/>
                  <a:pt x="17088" y="13349"/>
                  <a:pt x="17165" y="13271"/>
                </a:cubicBezTo>
                <a:cubicBezTo>
                  <a:pt x="17228" y="13207"/>
                  <a:pt x="17318" y="13165"/>
                  <a:pt x="17413" y="13196"/>
                </a:cubicBezTo>
                <a:cubicBezTo>
                  <a:pt x="17485" y="13219"/>
                  <a:pt x="17511" y="13360"/>
                  <a:pt x="17487" y="13419"/>
                </a:cubicBezTo>
                <a:cubicBezTo>
                  <a:pt x="17446" y="13518"/>
                  <a:pt x="17346" y="13626"/>
                  <a:pt x="17264" y="13692"/>
                </a:cubicBezTo>
                <a:cubicBezTo>
                  <a:pt x="17187" y="13754"/>
                  <a:pt x="17095" y="13782"/>
                  <a:pt x="17016" y="13841"/>
                </a:cubicBezTo>
                <a:cubicBezTo>
                  <a:pt x="16905" y="13924"/>
                  <a:pt x="16852" y="13979"/>
                  <a:pt x="16768" y="14089"/>
                </a:cubicBezTo>
                <a:cubicBezTo>
                  <a:pt x="16744" y="14121"/>
                  <a:pt x="16743" y="14132"/>
                  <a:pt x="16718" y="14163"/>
                </a:cubicBezTo>
                <a:cubicBezTo>
                  <a:pt x="16780" y="14103"/>
                  <a:pt x="16846" y="14038"/>
                  <a:pt x="16917" y="13990"/>
                </a:cubicBezTo>
                <a:cubicBezTo>
                  <a:pt x="16964" y="13958"/>
                  <a:pt x="17053" y="13938"/>
                  <a:pt x="17090" y="13965"/>
                </a:cubicBezTo>
                <a:cubicBezTo>
                  <a:pt x="17161" y="14015"/>
                  <a:pt x="17087" y="14105"/>
                  <a:pt x="17214" y="14139"/>
                </a:cubicBezTo>
                <a:cubicBezTo>
                  <a:pt x="17296" y="14161"/>
                  <a:pt x="17387" y="14137"/>
                  <a:pt x="17413" y="14064"/>
                </a:cubicBezTo>
                <a:cubicBezTo>
                  <a:pt x="17442" y="13982"/>
                  <a:pt x="17401" y="14009"/>
                  <a:pt x="17363" y="1399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116000" y="6500880"/>
            <a:ext cx="9360" cy="1440"/>
          </a:xfrm>
          <a:custGeom>
            <a:avLst/>
            <a:gdLst/>
            <a:ahLst/>
            <a:rect l="l" t="t" r="r" b="b"/>
            <a:pathLst>
              <a:path w="25" h="1">
                <a:moveTo>
                  <a:pt x="3101" y="18058"/>
                </a:moveTo>
                <a:cubicBezTo>
                  <a:pt x="3109" y="18058"/>
                  <a:pt x="3117" y="18058"/>
                  <a:pt x="3125" y="1805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685800" y="304560"/>
            <a:ext cx="73915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Word Problem: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1.) A scuba diver is 14 feet below sea level. A second scuba diver is 22 feet below sea level. Write an integer to represent the divers’ positions relative to sea level.                                                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"/>
          <p:cNvSpPr/>
          <p:nvPr/>
        </p:nvSpPr>
        <p:spPr>
          <a:xfrm>
            <a:off x="2116080" y="3367080"/>
            <a:ext cx="741600" cy="71280"/>
          </a:xfrm>
          <a:custGeom>
            <a:avLst/>
            <a:gdLst/>
            <a:ahLst/>
            <a:rect l="l" t="t" r="r" b="b"/>
            <a:pathLst>
              <a:path w="2060" h="200">
                <a:moveTo>
                  <a:pt x="5879" y="9351"/>
                </a:moveTo>
                <a:lnTo>
                  <a:pt x="5879" y="9351"/>
                </a:lnTo>
                <a:lnTo>
                  <a:pt x="5879" y="9351"/>
                </a:lnTo>
              </a:path>
              <a:path w="2060" h="200">
                <a:moveTo>
                  <a:pt x="5879" y="9351"/>
                </a:moveTo>
                <a:lnTo>
                  <a:pt x="5879" y="9351"/>
                </a:lnTo>
              </a:path>
              <a:path w="2060" h="200">
                <a:moveTo>
                  <a:pt x="7938" y="9376"/>
                </a:moveTo>
                <a:lnTo>
                  <a:pt x="7938" y="9376"/>
                </a:lnTo>
                <a:lnTo>
                  <a:pt x="7938" y="9376"/>
                </a:lnTo>
              </a:path>
              <a:path w="2060" h="200">
                <a:moveTo>
                  <a:pt x="7938" y="9550"/>
                </a:moveTo>
                <a:cubicBezTo>
                  <a:pt x="7938" y="9542"/>
                  <a:pt x="7938" y="9533"/>
                  <a:pt x="7938" y="9525"/>
                </a:cubicBezTo>
              </a:path>
              <a:path w="2060" h="200">
                <a:moveTo>
                  <a:pt x="7938" y="9525"/>
                </a:moveTo>
                <a:lnTo>
                  <a:pt x="7938" y="9525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3330720"/>
            <a:ext cx="19080" cy="241200"/>
          </a:xfrm>
          <a:custGeom>
            <a:avLst/>
            <a:gdLst/>
            <a:ahLst/>
            <a:rect l="l" t="t" r="r" b="b"/>
            <a:pathLst>
              <a:path w="51" h="671">
                <a:moveTo>
                  <a:pt x="3200" y="9277"/>
                </a:moveTo>
                <a:cubicBezTo>
                  <a:pt x="3200" y="9269"/>
                  <a:pt x="3200" y="9260"/>
                  <a:pt x="3200" y="9252"/>
                </a:cubicBezTo>
                <a:cubicBezTo>
                  <a:pt x="3267" y="9274"/>
                  <a:pt x="3201" y="9494"/>
                  <a:pt x="3200" y="9525"/>
                </a:cubicBezTo>
                <a:cubicBezTo>
                  <a:pt x="3194" y="9661"/>
                  <a:pt x="3185" y="9788"/>
                  <a:pt x="3175" y="992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276200" y="3224160"/>
            <a:ext cx="268560" cy="187200"/>
          </a:xfrm>
          <a:custGeom>
            <a:avLst/>
            <a:gdLst/>
            <a:ahLst/>
            <a:rect l="l" t="t" r="r" b="b"/>
            <a:pathLst>
              <a:path w="745" h="522">
                <a:moveTo>
                  <a:pt x="3746" y="9054"/>
                </a:moveTo>
                <a:cubicBezTo>
                  <a:pt x="3685" y="9069"/>
                  <a:pt x="3669" y="9080"/>
                  <a:pt x="3621" y="9128"/>
                </a:cubicBezTo>
                <a:cubicBezTo>
                  <a:pt x="3675" y="9170"/>
                  <a:pt x="3788" y="9203"/>
                  <a:pt x="3795" y="9277"/>
                </a:cubicBezTo>
                <a:cubicBezTo>
                  <a:pt x="3805" y="9374"/>
                  <a:pt x="3680" y="9437"/>
                  <a:pt x="3597" y="9401"/>
                </a:cubicBezTo>
                <a:cubicBezTo>
                  <a:pt x="3567" y="9371"/>
                  <a:pt x="3556" y="9357"/>
                  <a:pt x="3547" y="9327"/>
                </a:cubicBezTo>
              </a:path>
              <a:path w="745" h="522">
                <a:moveTo>
                  <a:pt x="4142" y="8954"/>
                </a:moveTo>
                <a:cubicBezTo>
                  <a:pt x="4142" y="9115"/>
                  <a:pt x="4135" y="9268"/>
                  <a:pt x="4118" y="9426"/>
                </a:cubicBezTo>
                <a:cubicBezTo>
                  <a:pt x="4118" y="9442"/>
                  <a:pt x="4118" y="9459"/>
                  <a:pt x="4118" y="9475"/>
                </a:cubicBezTo>
              </a:path>
              <a:path w="745" h="522">
                <a:moveTo>
                  <a:pt x="3894" y="9203"/>
                </a:moveTo>
                <a:cubicBezTo>
                  <a:pt x="4019" y="9212"/>
                  <a:pt x="4139" y="9227"/>
                  <a:pt x="4266" y="9227"/>
                </a:cubicBezTo>
                <a:cubicBezTo>
                  <a:pt x="4291" y="9227"/>
                  <a:pt x="4299" y="9227"/>
                  <a:pt x="4291" y="925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812960" y="3295800"/>
            <a:ext cx="187200" cy="249120"/>
          </a:xfrm>
          <a:custGeom>
            <a:avLst/>
            <a:gdLst/>
            <a:ahLst/>
            <a:rect l="l" t="t" r="r" b="b"/>
            <a:pathLst>
              <a:path w="522" h="695">
                <a:moveTo>
                  <a:pt x="5507" y="9599"/>
                </a:moveTo>
                <a:cubicBezTo>
                  <a:pt x="5455" y="9475"/>
                  <a:pt x="5391" y="9394"/>
                  <a:pt x="5234" y="9451"/>
                </a:cubicBezTo>
                <a:cubicBezTo>
                  <a:pt x="5126" y="9490"/>
                  <a:pt x="4936" y="9728"/>
                  <a:pt x="5085" y="9823"/>
                </a:cubicBezTo>
                <a:cubicBezTo>
                  <a:pt x="5208" y="9901"/>
                  <a:pt x="5295" y="9811"/>
                  <a:pt x="5383" y="9748"/>
                </a:cubicBezTo>
              </a:path>
              <a:path w="522" h="695">
                <a:moveTo>
                  <a:pt x="5507" y="9153"/>
                </a:moveTo>
                <a:cubicBezTo>
                  <a:pt x="5507" y="9296"/>
                  <a:pt x="5524" y="9434"/>
                  <a:pt x="5531" y="9575"/>
                </a:cubicBezTo>
                <a:cubicBezTo>
                  <a:pt x="5534" y="9624"/>
                  <a:pt x="5500" y="9804"/>
                  <a:pt x="5556" y="982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108160" y="3384720"/>
            <a:ext cx="480960" cy="169560"/>
          </a:xfrm>
          <a:custGeom>
            <a:avLst/>
            <a:gdLst/>
            <a:ahLst/>
            <a:rect l="l" t="t" r="r" b="b"/>
            <a:pathLst>
              <a:path w="1340" h="472">
                <a:moveTo>
                  <a:pt x="5854" y="9475"/>
                </a:moveTo>
                <a:cubicBezTo>
                  <a:pt x="5854" y="9571"/>
                  <a:pt x="5871" y="9654"/>
                  <a:pt x="5879" y="9748"/>
                </a:cubicBezTo>
              </a:path>
              <a:path w="1340" h="472">
                <a:moveTo>
                  <a:pt x="6077" y="9550"/>
                </a:moveTo>
                <a:cubicBezTo>
                  <a:pt x="6103" y="9648"/>
                  <a:pt x="6125" y="9812"/>
                  <a:pt x="6226" y="9872"/>
                </a:cubicBezTo>
                <a:cubicBezTo>
                  <a:pt x="6234" y="9872"/>
                  <a:pt x="6243" y="9872"/>
                  <a:pt x="6251" y="9872"/>
                </a:cubicBezTo>
                <a:cubicBezTo>
                  <a:pt x="6300" y="9742"/>
                  <a:pt x="6363" y="9605"/>
                  <a:pt x="6400" y="9475"/>
                </a:cubicBezTo>
              </a:path>
              <a:path w="1340" h="472">
                <a:moveTo>
                  <a:pt x="6648" y="9599"/>
                </a:moveTo>
                <a:cubicBezTo>
                  <a:pt x="6734" y="9599"/>
                  <a:pt x="6800" y="9611"/>
                  <a:pt x="6846" y="9550"/>
                </a:cubicBezTo>
                <a:cubicBezTo>
                  <a:pt x="6826" y="9469"/>
                  <a:pt x="6765" y="9480"/>
                  <a:pt x="6697" y="9500"/>
                </a:cubicBezTo>
                <a:cubicBezTo>
                  <a:pt x="6557" y="9541"/>
                  <a:pt x="6549" y="9676"/>
                  <a:pt x="6598" y="9798"/>
                </a:cubicBezTo>
                <a:cubicBezTo>
                  <a:pt x="6640" y="9903"/>
                  <a:pt x="6796" y="9744"/>
                  <a:pt x="6821" y="9723"/>
                </a:cubicBezTo>
              </a:path>
              <a:path w="1340" h="472">
                <a:moveTo>
                  <a:pt x="6921" y="9575"/>
                </a:moveTo>
                <a:cubicBezTo>
                  <a:pt x="6930" y="9630"/>
                  <a:pt x="6948" y="9673"/>
                  <a:pt x="6970" y="9723"/>
                </a:cubicBezTo>
                <a:cubicBezTo>
                  <a:pt x="6970" y="9658"/>
                  <a:pt x="7015" y="9500"/>
                  <a:pt x="7045" y="9451"/>
                </a:cubicBezTo>
                <a:cubicBezTo>
                  <a:pt x="7070" y="9411"/>
                  <a:pt x="7155" y="9406"/>
                  <a:pt x="7193" y="940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125800" y="4010040"/>
            <a:ext cx="714240" cy="98280"/>
          </a:xfrm>
          <a:custGeom>
            <a:avLst/>
            <a:gdLst/>
            <a:ahLst/>
            <a:rect l="l" t="t" r="r" b="b"/>
            <a:pathLst>
              <a:path w="1985" h="274">
                <a:moveTo>
                  <a:pt x="5904" y="11137"/>
                </a:moveTo>
                <a:lnTo>
                  <a:pt x="5904" y="11137"/>
                </a:lnTo>
                <a:lnTo>
                  <a:pt x="5904" y="11137"/>
                </a:lnTo>
                <a:lnTo>
                  <a:pt x="5904" y="11137"/>
                </a:lnTo>
              </a:path>
              <a:path w="1985" h="274">
                <a:moveTo>
                  <a:pt x="5904" y="11137"/>
                </a:moveTo>
                <a:lnTo>
                  <a:pt x="5904" y="11137"/>
                </a:lnTo>
              </a:path>
              <a:path w="1985" h="274">
                <a:moveTo>
                  <a:pt x="7888" y="11187"/>
                </a:moveTo>
                <a:cubicBezTo>
                  <a:pt x="7888" y="11179"/>
                  <a:pt x="7888" y="11170"/>
                  <a:pt x="7888" y="11162"/>
                </a:cubicBezTo>
              </a:path>
              <a:path w="1985" h="274">
                <a:moveTo>
                  <a:pt x="7789" y="11410"/>
                </a:moveTo>
                <a:lnTo>
                  <a:pt x="7789" y="11410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089000" y="3929040"/>
            <a:ext cx="519120" cy="349200"/>
          </a:xfrm>
          <a:custGeom>
            <a:avLst/>
            <a:gdLst/>
            <a:ahLst/>
            <a:rect l="l" t="t" r="r" b="b"/>
            <a:pathLst>
              <a:path w="1440" h="968">
                <a:moveTo>
                  <a:pt x="3076" y="11237"/>
                </a:moveTo>
                <a:cubicBezTo>
                  <a:pt x="3113" y="11125"/>
                  <a:pt x="3260" y="11126"/>
                  <a:pt x="3373" y="11212"/>
                </a:cubicBezTo>
                <a:cubicBezTo>
                  <a:pt x="3613" y="11395"/>
                  <a:pt x="3423" y="11669"/>
                  <a:pt x="3249" y="11807"/>
                </a:cubicBezTo>
                <a:cubicBezTo>
                  <a:pt x="3144" y="11870"/>
                  <a:pt x="3124" y="11901"/>
                  <a:pt x="3051" y="11857"/>
                </a:cubicBezTo>
                <a:cubicBezTo>
                  <a:pt x="3039" y="11692"/>
                  <a:pt x="3115" y="11558"/>
                  <a:pt x="3324" y="11584"/>
                </a:cubicBezTo>
                <a:cubicBezTo>
                  <a:pt x="3415" y="11595"/>
                  <a:pt x="3517" y="11708"/>
                  <a:pt x="3547" y="11782"/>
                </a:cubicBezTo>
              </a:path>
              <a:path w="1440" h="968">
                <a:moveTo>
                  <a:pt x="3746" y="11162"/>
                </a:moveTo>
                <a:cubicBezTo>
                  <a:pt x="3764" y="11236"/>
                  <a:pt x="3772" y="11243"/>
                  <a:pt x="3770" y="11286"/>
                </a:cubicBezTo>
                <a:cubicBezTo>
                  <a:pt x="3770" y="11210"/>
                  <a:pt x="3755" y="11168"/>
                  <a:pt x="3820" y="11112"/>
                </a:cubicBezTo>
                <a:cubicBezTo>
                  <a:pt x="3899" y="11044"/>
                  <a:pt x="4013" y="11170"/>
                  <a:pt x="4043" y="11237"/>
                </a:cubicBezTo>
                <a:cubicBezTo>
                  <a:pt x="4064" y="11319"/>
                  <a:pt x="4072" y="11334"/>
                  <a:pt x="4068" y="11385"/>
                </a:cubicBezTo>
              </a:path>
              <a:path w="1440" h="968">
                <a:moveTo>
                  <a:pt x="4440" y="11187"/>
                </a:moveTo>
                <a:cubicBezTo>
                  <a:pt x="4405" y="11140"/>
                  <a:pt x="4365" y="11098"/>
                  <a:pt x="4291" y="11162"/>
                </a:cubicBezTo>
                <a:cubicBezTo>
                  <a:pt x="4228" y="11217"/>
                  <a:pt x="4175" y="11401"/>
                  <a:pt x="4266" y="11460"/>
                </a:cubicBezTo>
                <a:cubicBezTo>
                  <a:pt x="4329" y="11460"/>
                  <a:pt x="4357" y="11453"/>
                  <a:pt x="4390" y="11410"/>
                </a:cubicBezTo>
              </a:path>
              <a:path w="1440" h="968">
                <a:moveTo>
                  <a:pt x="4390" y="10914"/>
                </a:moveTo>
                <a:cubicBezTo>
                  <a:pt x="4439" y="11060"/>
                  <a:pt x="4516" y="11252"/>
                  <a:pt x="4465" y="11410"/>
                </a:cubicBezTo>
                <a:cubicBezTo>
                  <a:pt x="4448" y="11427"/>
                  <a:pt x="4432" y="11443"/>
                  <a:pt x="4415" y="1146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866960" y="3929040"/>
            <a:ext cx="830160" cy="312840"/>
          </a:xfrm>
          <a:custGeom>
            <a:avLst/>
            <a:gdLst/>
            <a:ahLst/>
            <a:rect l="l" t="t" r="r" b="b"/>
            <a:pathLst>
              <a:path w="2308" h="869">
                <a:moveTo>
                  <a:pt x="5631" y="11460"/>
                </a:moveTo>
                <a:cubicBezTo>
                  <a:pt x="5631" y="11389"/>
                  <a:pt x="5654" y="11335"/>
                  <a:pt x="5556" y="11311"/>
                </a:cubicBezTo>
                <a:cubicBezTo>
                  <a:pt x="5401" y="11273"/>
                  <a:pt x="5220" y="11411"/>
                  <a:pt x="5184" y="11559"/>
                </a:cubicBezTo>
                <a:cubicBezTo>
                  <a:pt x="5184" y="11665"/>
                  <a:pt x="5171" y="11694"/>
                  <a:pt x="5234" y="11733"/>
                </a:cubicBezTo>
                <a:cubicBezTo>
                  <a:pt x="5417" y="11782"/>
                  <a:pt x="5483" y="11626"/>
                  <a:pt x="5581" y="11460"/>
                </a:cubicBezTo>
              </a:path>
              <a:path w="2308" h="869">
                <a:moveTo>
                  <a:pt x="5531" y="10914"/>
                </a:moveTo>
                <a:cubicBezTo>
                  <a:pt x="5572" y="11077"/>
                  <a:pt x="5618" y="11237"/>
                  <a:pt x="5631" y="11410"/>
                </a:cubicBezTo>
                <a:cubicBezTo>
                  <a:pt x="5636" y="11475"/>
                  <a:pt x="5609" y="11602"/>
                  <a:pt x="5655" y="11633"/>
                </a:cubicBezTo>
              </a:path>
              <a:path w="2308" h="869">
                <a:moveTo>
                  <a:pt x="5879" y="11336"/>
                </a:moveTo>
                <a:cubicBezTo>
                  <a:pt x="5879" y="11401"/>
                  <a:pt x="5825" y="11667"/>
                  <a:pt x="5879" y="11559"/>
                </a:cubicBezTo>
              </a:path>
              <a:path w="2308" h="869">
                <a:moveTo>
                  <a:pt x="6201" y="11385"/>
                </a:moveTo>
                <a:cubicBezTo>
                  <a:pt x="6232" y="11486"/>
                  <a:pt x="6258" y="11586"/>
                  <a:pt x="6300" y="11683"/>
                </a:cubicBezTo>
                <a:cubicBezTo>
                  <a:pt x="6345" y="11623"/>
                  <a:pt x="6334" y="11558"/>
                  <a:pt x="6350" y="11485"/>
                </a:cubicBezTo>
                <a:cubicBezTo>
                  <a:pt x="6375" y="11373"/>
                  <a:pt x="6381" y="11328"/>
                  <a:pt x="6474" y="11286"/>
                </a:cubicBezTo>
              </a:path>
              <a:path w="2308" h="869">
                <a:moveTo>
                  <a:pt x="6672" y="11410"/>
                </a:moveTo>
                <a:cubicBezTo>
                  <a:pt x="6756" y="11410"/>
                  <a:pt x="6825" y="11404"/>
                  <a:pt x="6896" y="11385"/>
                </a:cubicBezTo>
                <a:cubicBezTo>
                  <a:pt x="6904" y="11385"/>
                  <a:pt x="6913" y="11385"/>
                  <a:pt x="6921" y="11385"/>
                </a:cubicBezTo>
                <a:cubicBezTo>
                  <a:pt x="6921" y="11318"/>
                  <a:pt x="6926" y="11260"/>
                  <a:pt x="6846" y="11237"/>
                </a:cubicBezTo>
                <a:cubicBezTo>
                  <a:pt x="6741" y="11207"/>
                  <a:pt x="6682" y="11390"/>
                  <a:pt x="6672" y="11460"/>
                </a:cubicBezTo>
                <a:cubicBezTo>
                  <a:pt x="6672" y="11545"/>
                  <a:pt x="6666" y="11565"/>
                  <a:pt x="6697" y="11609"/>
                </a:cubicBezTo>
                <a:cubicBezTo>
                  <a:pt x="6858" y="11609"/>
                  <a:pt x="6928" y="11606"/>
                  <a:pt x="7045" y="11485"/>
                </a:cubicBezTo>
                <a:cubicBezTo>
                  <a:pt x="7066" y="11463"/>
                  <a:pt x="7169" y="11261"/>
                  <a:pt x="7169" y="11385"/>
                </a:cubicBezTo>
                <a:cubicBezTo>
                  <a:pt x="7169" y="11418"/>
                  <a:pt x="7169" y="11452"/>
                  <a:pt x="7169" y="11485"/>
                </a:cubicBezTo>
                <a:cubicBezTo>
                  <a:pt x="7169" y="11560"/>
                  <a:pt x="7165" y="11380"/>
                  <a:pt x="7193" y="11311"/>
                </a:cubicBezTo>
                <a:cubicBezTo>
                  <a:pt x="7234" y="11209"/>
                  <a:pt x="7326" y="11159"/>
                  <a:pt x="7417" y="11187"/>
                </a:cubicBezTo>
                <a:cubicBezTo>
                  <a:pt x="7442" y="11195"/>
                  <a:pt x="7466" y="11204"/>
                  <a:pt x="7491" y="1121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456000" y="3313080"/>
            <a:ext cx="98280" cy="1800"/>
          </a:xfrm>
          <a:custGeom>
            <a:avLst/>
            <a:gdLst/>
            <a:ahLst/>
            <a:rect l="l" t="t" r="r" b="b"/>
            <a:pathLst>
              <a:path w="274" h="1">
                <a:moveTo>
                  <a:pt x="9599" y="9203"/>
                </a:moveTo>
                <a:cubicBezTo>
                  <a:pt x="9690" y="9203"/>
                  <a:pt x="9781" y="9203"/>
                  <a:pt x="9872" y="920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679920" y="3224160"/>
            <a:ext cx="52200" cy="187200"/>
          </a:xfrm>
          <a:custGeom>
            <a:avLst/>
            <a:gdLst/>
            <a:ahLst/>
            <a:rect l="l" t="t" r="r" b="b"/>
            <a:pathLst>
              <a:path w="149" h="522">
                <a:moveTo>
                  <a:pt x="10220" y="8954"/>
                </a:moveTo>
                <a:cubicBezTo>
                  <a:pt x="10306" y="9024"/>
                  <a:pt x="10353" y="9180"/>
                  <a:pt x="10368" y="9302"/>
                </a:cubicBezTo>
                <a:cubicBezTo>
                  <a:pt x="10375" y="9356"/>
                  <a:pt x="10368" y="9419"/>
                  <a:pt x="10368" y="947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848040" y="3143160"/>
            <a:ext cx="152640" cy="231840"/>
          </a:xfrm>
          <a:custGeom>
            <a:avLst/>
            <a:gdLst/>
            <a:ahLst/>
            <a:rect l="l" t="t" r="r" b="b"/>
            <a:pathLst>
              <a:path w="422" h="646">
                <a:moveTo>
                  <a:pt x="10716" y="8954"/>
                </a:moveTo>
                <a:cubicBezTo>
                  <a:pt x="10716" y="9021"/>
                  <a:pt x="10702" y="9098"/>
                  <a:pt x="10691" y="9128"/>
                </a:cubicBezTo>
                <a:cubicBezTo>
                  <a:pt x="10691" y="9136"/>
                  <a:pt x="10691" y="9145"/>
                  <a:pt x="10691" y="9153"/>
                </a:cubicBezTo>
                <a:cubicBezTo>
                  <a:pt x="10798" y="9153"/>
                  <a:pt x="10906" y="9153"/>
                  <a:pt x="11013" y="9153"/>
                </a:cubicBezTo>
              </a:path>
              <a:path w="422" h="646">
                <a:moveTo>
                  <a:pt x="10988" y="8731"/>
                </a:moveTo>
                <a:cubicBezTo>
                  <a:pt x="11038" y="8909"/>
                  <a:pt x="11059" y="9073"/>
                  <a:pt x="11088" y="9252"/>
                </a:cubicBezTo>
                <a:cubicBezTo>
                  <a:pt x="11109" y="9318"/>
                  <a:pt x="11117" y="9333"/>
                  <a:pt x="11112" y="937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562200" y="3902040"/>
            <a:ext cx="669960" cy="241200"/>
          </a:xfrm>
          <a:custGeom>
            <a:avLst/>
            <a:gdLst/>
            <a:ahLst/>
            <a:rect l="l" t="t" r="r" b="b"/>
            <a:pathLst>
              <a:path w="1861" h="670">
                <a:moveTo>
                  <a:pt x="9897" y="11187"/>
                </a:moveTo>
                <a:cubicBezTo>
                  <a:pt x="9987" y="11148"/>
                  <a:pt x="10113" y="11145"/>
                  <a:pt x="10220" y="11137"/>
                </a:cubicBezTo>
              </a:path>
              <a:path w="1861" h="670">
                <a:moveTo>
                  <a:pt x="10592" y="10914"/>
                </a:moveTo>
                <a:cubicBezTo>
                  <a:pt x="10666" y="10914"/>
                  <a:pt x="10722" y="10918"/>
                  <a:pt x="10790" y="10939"/>
                </a:cubicBezTo>
                <a:cubicBezTo>
                  <a:pt x="10769" y="11088"/>
                  <a:pt x="10668" y="11175"/>
                  <a:pt x="10567" y="11286"/>
                </a:cubicBezTo>
                <a:cubicBezTo>
                  <a:pt x="10498" y="11361"/>
                  <a:pt x="10465" y="11372"/>
                  <a:pt x="10443" y="11460"/>
                </a:cubicBezTo>
                <a:cubicBezTo>
                  <a:pt x="10595" y="11478"/>
                  <a:pt x="10692" y="11443"/>
                  <a:pt x="10840" y="11410"/>
                </a:cubicBezTo>
                <a:cubicBezTo>
                  <a:pt x="10848" y="11410"/>
                  <a:pt x="10856" y="11410"/>
                  <a:pt x="10864" y="11410"/>
                </a:cubicBezTo>
              </a:path>
              <a:path w="1861" h="670">
                <a:moveTo>
                  <a:pt x="11137" y="10939"/>
                </a:moveTo>
                <a:cubicBezTo>
                  <a:pt x="11184" y="10892"/>
                  <a:pt x="11371" y="10837"/>
                  <a:pt x="11460" y="10840"/>
                </a:cubicBezTo>
                <a:cubicBezTo>
                  <a:pt x="11476" y="10848"/>
                  <a:pt x="11493" y="10856"/>
                  <a:pt x="11509" y="10864"/>
                </a:cubicBezTo>
                <a:cubicBezTo>
                  <a:pt x="11509" y="11045"/>
                  <a:pt x="11424" y="11118"/>
                  <a:pt x="11311" y="11261"/>
                </a:cubicBezTo>
                <a:cubicBezTo>
                  <a:pt x="11246" y="11343"/>
                  <a:pt x="11185" y="11412"/>
                  <a:pt x="11112" y="11485"/>
                </a:cubicBezTo>
                <a:cubicBezTo>
                  <a:pt x="11250" y="11462"/>
                  <a:pt x="11390" y="11447"/>
                  <a:pt x="11534" y="11460"/>
                </a:cubicBezTo>
                <a:cubicBezTo>
                  <a:pt x="11614" y="11467"/>
                  <a:pt x="11732" y="11496"/>
                  <a:pt x="11733" y="1150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4T17:59:31Z</dcterms:created>
  <dc:creator>ccps</dc:creator>
  <dc:description/>
  <dc:language>en-US</dc:language>
  <cp:lastModifiedBy>deanne elizabeth mcgrath</cp:lastModifiedBy>
  <dcterms:modified xsi:type="dcterms:W3CDTF">2011-12-15T20:15:32Z</dcterms:modified>
  <cp:revision>21</cp:revision>
  <dc:subject/>
  <dc:title>Chapter 2 Integer Operations</dc:title>
</cp:coreProperties>
</file>